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FFA1-BBA9-48F3-8202-6E754E48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AB73-6121-49BA-BC74-28B63C3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7D29-A4E1-4161-AED0-E6EF618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612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696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612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696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B7FD-D390-40BD-8486-689C8BA9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640" y="274680"/>
            <a:ext cx="7632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01D2-C6D4-4CA7-A776-BB543C2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612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696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612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696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7E6F-48CE-4523-8192-A7D0F91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0D02-BA01-4649-B8CF-44F49F3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7BF8-CCB4-4601-9A08-FCF6525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640" y="274680"/>
            <a:ext cx="7632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9402-3C2D-4572-966A-6FE4F96E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0F49-BD45-4DB3-A086-3EB35FE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C202-20A1-4DF0-8B83-A0BFBA2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98AA-E228-433F-8CE0-95C00C7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9"/>
          <p:cNvGrpSpPr/>
          <p:nvPr/>
        </p:nvGrpSpPr>
        <p:grpSpPr>
          <a:xfrm>
            <a:off x="4753080" y="4997520"/>
            <a:ext cx="4248000" cy="1708200"/>
            <a:chOff x="4753080" y="4997520"/>
            <a:chExt cx="4248000" cy="1708200"/>
          </a:xfrm>
        </p:grpSpPr>
        <p:sp>
          <p:nvSpPr>
            <p:cNvPr id="1" name="Freeform 15"/>
            <p:cNvSpPr/>
            <p:nvPr/>
          </p:nvSpPr>
          <p:spPr>
            <a:xfrm>
              <a:off x="5719680" y="6072840"/>
              <a:ext cx="3088800" cy="632520"/>
            </a:xfrm>
            <a:custGeom>
              <a:avLst/>
              <a:gdLst>
                <a:gd name="textAreaLeft" fmla="*/ 0 w 3088800"/>
                <a:gd name="textAreaRight" fmla="*/ 3089160 w 308880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2153" h="441">
                  <a:moveTo>
                    <a:pt x="384" y="441"/>
                  </a:moveTo>
                  <a:lnTo>
                    <a:pt x="0" y="441"/>
                  </a:lnTo>
                  <a:lnTo>
                    <a:pt x="14" y="433"/>
                  </a:lnTo>
                  <a:lnTo>
                    <a:pt x="28" y="423"/>
                  </a:lnTo>
                  <a:lnTo>
                    <a:pt x="42" y="413"/>
                  </a:lnTo>
                  <a:lnTo>
                    <a:pt x="57" y="402"/>
                  </a:lnTo>
                  <a:lnTo>
                    <a:pt x="88" y="379"/>
                  </a:lnTo>
                  <a:lnTo>
                    <a:pt x="120" y="353"/>
                  </a:lnTo>
                  <a:lnTo>
                    <a:pt x="189" y="297"/>
                  </a:lnTo>
                  <a:lnTo>
                    <a:pt x="226" y="268"/>
                  </a:lnTo>
                  <a:lnTo>
                    <a:pt x="265" y="238"/>
                  </a:lnTo>
                  <a:lnTo>
                    <a:pt x="285" y="223"/>
                  </a:lnTo>
                  <a:lnTo>
                    <a:pt x="306" y="208"/>
                  </a:lnTo>
                  <a:lnTo>
                    <a:pt x="327" y="193"/>
                  </a:lnTo>
                  <a:lnTo>
                    <a:pt x="349" y="179"/>
                  </a:lnTo>
                  <a:lnTo>
                    <a:pt x="372" y="164"/>
                  </a:lnTo>
                  <a:lnTo>
                    <a:pt x="394" y="150"/>
                  </a:lnTo>
                  <a:lnTo>
                    <a:pt x="418" y="136"/>
                  </a:lnTo>
                  <a:lnTo>
                    <a:pt x="442" y="123"/>
                  </a:lnTo>
                  <a:lnTo>
                    <a:pt x="466" y="110"/>
                  </a:lnTo>
                  <a:lnTo>
                    <a:pt x="492" y="97"/>
                  </a:lnTo>
                  <a:lnTo>
                    <a:pt x="504" y="91"/>
                  </a:lnTo>
                  <a:lnTo>
                    <a:pt x="517" y="85"/>
                  </a:lnTo>
                  <a:lnTo>
                    <a:pt x="544" y="74"/>
                  </a:lnTo>
                  <a:lnTo>
                    <a:pt x="571" y="63"/>
                  </a:lnTo>
                  <a:lnTo>
                    <a:pt x="598" y="53"/>
                  </a:lnTo>
                  <a:lnTo>
                    <a:pt x="627" y="43"/>
                  </a:lnTo>
                  <a:lnTo>
                    <a:pt x="655" y="34"/>
                  </a:lnTo>
                  <a:lnTo>
                    <a:pt x="683" y="27"/>
                  </a:lnTo>
                  <a:lnTo>
                    <a:pt x="711" y="20"/>
                  </a:lnTo>
                  <a:lnTo>
                    <a:pt x="738" y="15"/>
                  </a:lnTo>
                  <a:lnTo>
                    <a:pt x="765" y="11"/>
                  </a:lnTo>
                  <a:lnTo>
                    <a:pt x="791" y="7"/>
                  </a:lnTo>
                  <a:lnTo>
                    <a:pt x="817" y="4"/>
                  </a:lnTo>
                  <a:lnTo>
                    <a:pt x="842" y="2"/>
                  </a:lnTo>
                  <a:lnTo>
                    <a:pt x="867" y="1"/>
                  </a:lnTo>
                  <a:lnTo>
                    <a:pt x="891" y="1"/>
                  </a:lnTo>
                  <a:lnTo>
                    <a:pt x="915" y="1"/>
                  </a:lnTo>
                  <a:lnTo>
                    <a:pt x="938" y="2"/>
                  </a:lnTo>
                  <a:lnTo>
                    <a:pt x="961" y="4"/>
                  </a:lnTo>
                  <a:lnTo>
                    <a:pt x="984" y="6"/>
                  </a:lnTo>
                  <a:lnTo>
                    <a:pt x="1006" y="8"/>
                  </a:lnTo>
                  <a:lnTo>
                    <a:pt x="1027" y="12"/>
                  </a:lnTo>
                  <a:lnTo>
                    <a:pt x="1048" y="15"/>
                  </a:lnTo>
                  <a:lnTo>
                    <a:pt x="1069" y="19"/>
                  </a:lnTo>
                  <a:lnTo>
                    <a:pt x="1089" y="23"/>
                  </a:lnTo>
                  <a:lnTo>
                    <a:pt x="1128" y="33"/>
                  </a:lnTo>
                  <a:lnTo>
                    <a:pt x="1146" y="38"/>
                  </a:lnTo>
                  <a:lnTo>
                    <a:pt x="1165" y="43"/>
                  </a:lnTo>
                  <a:lnTo>
                    <a:pt x="1199" y="54"/>
                  </a:lnTo>
                  <a:lnTo>
                    <a:pt x="1232" y="65"/>
                  </a:lnTo>
                  <a:lnTo>
                    <a:pt x="1263" y="76"/>
                  </a:lnTo>
                  <a:lnTo>
                    <a:pt x="1293" y="87"/>
                  </a:lnTo>
                  <a:lnTo>
                    <a:pt x="1320" y="97"/>
                  </a:lnTo>
                  <a:lnTo>
                    <a:pt x="1371" y="115"/>
                  </a:lnTo>
                  <a:lnTo>
                    <a:pt x="1397" y="124"/>
                  </a:lnTo>
                  <a:lnTo>
                    <a:pt x="1423" y="132"/>
                  </a:lnTo>
                  <a:lnTo>
                    <a:pt x="1449" y="140"/>
                  </a:lnTo>
                  <a:lnTo>
                    <a:pt x="1476" y="147"/>
                  </a:lnTo>
                  <a:lnTo>
                    <a:pt x="1503" y="154"/>
                  </a:lnTo>
                  <a:lnTo>
                    <a:pt x="1530" y="160"/>
                  </a:lnTo>
                  <a:lnTo>
                    <a:pt x="1560" y="165"/>
                  </a:lnTo>
                  <a:lnTo>
                    <a:pt x="1589" y="169"/>
                  </a:lnTo>
                  <a:lnTo>
                    <a:pt x="1619" y="172"/>
                  </a:lnTo>
                  <a:lnTo>
                    <a:pt x="1651" y="174"/>
                  </a:lnTo>
                  <a:lnTo>
                    <a:pt x="1667" y="175"/>
                  </a:lnTo>
                  <a:lnTo>
                    <a:pt x="1684" y="175"/>
                  </a:lnTo>
                  <a:lnTo>
                    <a:pt x="1701" y="175"/>
                  </a:lnTo>
                  <a:lnTo>
                    <a:pt x="1719" y="175"/>
                  </a:lnTo>
                  <a:lnTo>
                    <a:pt x="1755" y="173"/>
                  </a:lnTo>
                  <a:lnTo>
                    <a:pt x="1773" y="171"/>
                  </a:lnTo>
                  <a:lnTo>
                    <a:pt x="1792" y="169"/>
                  </a:lnTo>
                  <a:lnTo>
                    <a:pt x="1807" y="167"/>
                  </a:lnTo>
                  <a:lnTo>
                    <a:pt x="1823" y="165"/>
                  </a:lnTo>
                  <a:lnTo>
                    <a:pt x="1838" y="161"/>
                  </a:lnTo>
                  <a:lnTo>
                    <a:pt x="1854" y="157"/>
                  </a:lnTo>
                  <a:lnTo>
                    <a:pt x="1885" y="148"/>
                  </a:lnTo>
                  <a:lnTo>
                    <a:pt x="1900" y="142"/>
                  </a:lnTo>
                  <a:lnTo>
                    <a:pt x="1916" y="136"/>
                  </a:lnTo>
                  <a:lnTo>
                    <a:pt x="1931" y="130"/>
                  </a:lnTo>
                  <a:lnTo>
                    <a:pt x="1946" y="123"/>
                  </a:lnTo>
                  <a:lnTo>
                    <a:pt x="1961" y="116"/>
                  </a:lnTo>
                  <a:lnTo>
                    <a:pt x="1976" y="109"/>
                  </a:lnTo>
                  <a:lnTo>
                    <a:pt x="2005" y="94"/>
                  </a:lnTo>
                  <a:lnTo>
                    <a:pt x="2032" y="79"/>
                  </a:lnTo>
                  <a:lnTo>
                    <a:pt x="2057" y="64"/>
                  </a:lnTo>
                  <a:lnTo>
                    <a:pt x="2080" y="49"/>
                  </a:lnTo>
                  <a:lnTo>
                    <a:pt x="2118" y="24"/>
                  </a:lnTo>
                  <a:lnTo>
                    <a:pt x="2143" y="7"/>
                  </a:lnTo>
                  <a:lnTo>
                    <a:pt x="2153" y="0"/>
                  </a:lnTo>
                  <a:lnTo>
                    <a:pt x="2144" y="7"/>
                  </a:lnTo>
                  <a:lnTo>
                    <a:pt x="2133" y="16"/>
                  </a:lnTo>
                  <a:lnTo>
                    <a:pt x="2118" y="27"/>
                  </a:lnTo>
                  <a:lnTo>
                    <a:pt x="2099" y="41"/>
                  </a:lnTo>
                  <a:lnTo>
                    <a:pt x="2077" y="56"/>
                  </a:lnTo>
                  <a:lnTo>
                    <a:pt x="2052" y="72"/>
                  </a:lnTo>
                  <a:lnTo>
                    <a:pt x="2024" y="89"/>
                  </a:lnTo>
                  <a:lnTo>
                    <a:pt x="2008" y="97"/>
                  </a:lnTo>
                  <a:lnTo>
                    <a:pt x="1992" y="106"/>
                  </a:lnTo>
                  <a:lnTo>
                    <a:pt x="1976" y="114"/>
                  </a:lnTo>
                  <a:lnTo>
                    <a:pt x="1959" y="123"/>
                  </a:lnTo>
                  <a:lnTo>
                    <a:pt x="1941" y="131"/>
                  </a:lnTo>
                  <a:lnTo>
                    <a:pt x="1923" y="139"/>
                  </a:lnTo>
                  <a:lnTo>
                    <a:pt x="1904" y="146"/>
                  </a:lnTo>
                  <a:lnTo>
                    <a:pt x="1885" y="154"/>
                  </a:lnTo>
                  <a:lnTo>
                    <a:pt x="1865" y="160"/>
                  </a:lnTo>
                  <a:lnTo>
                    <a:pt x="1845" y="167"/>
                  </a:lnTo>
                  <a:lnTo>
                    <a:pt x="1825" y="172"/>
                  </a:lnTo>
                  <a:lnTo>
                    <a:pt x="1804" y="177"/>
                  </a:lnTo>
                  <a:lnTo>
                    <a:pt x="1783" y="182"/>
                  </a:lnTo>
                  <a:lnTo>
                    <a:pt x="1761" y="185"/>
                  </a:lnTo>
                  <a:lnTo>
                    <a:pt x="1740" y="188"/>
                  </a:lnTo>
                  <a:lnTo>
                    <a:pt x="1718" y="190"/>
                  </a:lnTo>
                  <a:lnTo>
                    <a:pt x="1691" y="192"/>
                  </a:lnTo>
                  <a:lnTo>
                    <a:pt x="1666" y="193"/>
                  </a:lnTo>
                  <a:lnTo>
                    <a:pt x="1643" y="193"/>
                  </a:lnTo>
                  <a:lnTo>
                    <a:pt x="1621" y="192"/>
                  </a:lnTo>
                  <a:lnTo>
                    <a:pt x="1599" y="191"/>
                  </a:lnTo>
                  <a:lnTo>
                    <a:pt x="1579" y="189"/>
                  </a:lnTo>
                  <a:lnTo>
                    <a:pt x="1558" y="186"/>
                  </a:lnTo>
                  <a:lnTo>
                    <a:pt x="1537" y="183"/>
                  </a:lnTo>
                  <a:lnTo>
                    <a:pt x="1495" y="176"/>
                  </a:lnTo>
                  <a:lnTo>
                    <a:pt x="1450" y="167"/>
                  </a:lnTo>
                  <a:lnTo>
                    <a:pt x="1398" y="156"/>
                  </a:lnTo>
                  <a:lnTo>
                    <a:pt x="1338" y="145"/>
                  </a:lnTo>
                  <a:lnTo>
                    <a:pt x="1275" y="133"/>
                  </a:lnTo>
                  <a:lnTo>
                    <a:pt x="1244" y="128"/>
                  </a:lnTo>
                  <a:lnTo>
                    <a:pt x="1213" y="122"/>
                  </a:lnTo>
                  <a:lnTo>
                    <a:pt x="1182" y="117"/>
                  </a:lnTo>
                  <a:lnTo>
                    <a:pt x="1152" y="113"/>
                  </a:lnTo>
                  <a:lnTo>
                    <a:pt x="1121" y="109"/>
                  </a:lnTo>
                  <a:lnTo>
                    <a:pt x="1091" y="106"/>
                  </a:lnTo>
                  <a:lnTo>
                    <a:pt x="1061" y="104"/>
                  </a:lnTo>
                  <a:lnTo>
                    <a:pt x="1031" y="103"/>
                  </a:lnTo>
                  <a:lnTo>
                    <a:pt x="1002" y="103"/>
                  </a:lnTo>
                  <a:lnTo>
                    <a:pt x="987" y="103"/>
                  </a:lnTo>
                  <a:lnTo>
                    <a:pt x="973" y="104"/>
                  </a:lnTo>
                  <a:lnTo>
                    <a:pt x="958" y="105"/>
                  </a:lnTo>
                  <a:lnTo>
                    <a:pt x="944" y="107"/>
                  </a:lnTo>
                  <a:lnTo>
                    <a:pt x="930" y="108"/>
                  </a:lnTo>
                  <a:lnTo>
                    <a:pt x="916" y="110"/>
                  </a:lnTo>
                  <a:lnTo>
                    <a:pt x="902" y="113"/>
                  </a:lnTo>
                  <a:lnTo>
                    <a:pt x="888" y="116"/>
                  </a:lnTo>
                  <a:lnTo>
                    <a:pt x="874" y="119"/>
                  </a:lnTo>
                  <a:lnTo>
                    <a:pt x="860" y="123"/>
                  </a:lnTo>
                  <a:lnTo>
                    <a:pt x="831" y="133"/>
                  </a:lnTo>
                  <a:lnTo>
                    <a:pt x="803" y="143"/>
                  </a:lnTo>
                  <a:lnTo>
                    <a:pt x="777" y="154"/>
                  </a:lnTo>
                  <a:lnTo>
                    <a:pt x="752" y="165"/>
                  </a:lnTo>
                  <a:lnTo>
                    <a:pt x="728" y="177"/>
                  </a:lnTo>
                  <a:lnTo>
                    <a:pt x="706" y="190"/>
                  </a:lnTo>
                  <a:lnTo>
                    <a:pt x="695" y="197"/>
                  </a:lnTo>
                  <a:lnTo>
                    <a:pt x="684" y="204"/>
                  </a:lnTo>
                  <a:lnTo>
                    <a:pt x="663" y="218"/>
                  </a:lnTo>
                  <a:lnTo>
                    <a:pt x="642" y="232"/>
                  </a:lnTo>
                  <a:lnTo>
                    <a:pt x="622" y="247"/>
                  </a:lnTo>
                  <a:lnTo>
                    <a:pt x="583" y="278"/>
                  </a:lnTo>
                  <a:lnTo>
                    <a:pt x="543" y="311"/>
                  </a:lnTo>
                  <a:lnTo>
                    <a:pt x="502" y="345"/>
                  </a:lnTo>
                  <a:lnTo>
                    <a:pt x="449" y="389"/>
                  </a:lnTo>
                  <a:lnTo>
                    <a:pt x="418" y="414"/>
                  </a:lnTo>
                  <a:lnTo>
                    <a:pt x="384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8dc1a"/>
                </a:gs>
                <a:gs pos="100000">
                  <a:srgbClr val="f4c6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" name="Freeform 16"/>
            <p:cNvSpPr/>
            <p:nvPr/>
          </p:nvSpPr>
          <p:spPr>
            <a:xfrm>
              <a:off x="4753080" y="4997520"/>
              <a:ext cx="4248000" cy="1708200"/>
            </a:xfrm>
            <a:custGeom>
              <a:avLst/>
              <a:gdLst>
                <a:gd name="textAreaLeft" fmla="*/ 0 w 4248000"/>
                <a:gd name="textAreaRight" fmla="*/ 4248360 w 42480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2961" h="1191">
                  <a:moveTo>
                    <a:pt x="1039" y="596"/>
                  </a:moveTo>
                  <a:lnTo>
                    <a:pt x="1075" y="590"/>
                  </a:lnTo>
                  <a:lnTo>
                    <a:pt x="1093" y="588"/>
                  </a:lnTo>
                  <a:lnTo>
                    <a:pt x="1111" y="586"/>
                  </a:lnTo>
                  <a:lnTo>
                    <a:pt x="1146" y="584"/>
                  </a:lnTo>
                  <a:lnTo>
                    <a:pt x="1181" y="583"/>
                  </a:lnTo>
                  <a:lnTo>
                    <a:pt x="1215" y="584"/>
                  </a:lnTo>
                  <a:lnTo>
                    <a:pt x="1232" y="584"/>
                  </a:lnTo>
                  <a:lnTo>
                    <a:pt x="1248" y="585"/>
                  </a:lnTo>
                  <a:lnTo>
                    <a:pt x="1281" y="588"/>
                  </a:lnTo>
                  <a:lnTo>
                    <a:pt x="1297" y="590"/>
                  </a:lnTo>
                  <a:lnTo>
                    <a:pt x="1313" y="592"/>
                  </a:lnTo>
                  <a:lnTo>
                    <a:pt x="1345" y="597"/>
                  </a:lnTo>
                  <a:lnTo>
                    <a:pt x="1377" y="603"/>
                  </a:lnTo>
                  <a:lnTo>
                    <a:pt x="1408" y="609"/>
                  </a:lnTo>
                  <a:lnTo>
                    <a:pt x="1423" y="612"/>
                  </a:lnTo>
                  <a:lnTo>
                    <a:pt x="1438" y="615"/>
                  </a:lnTo>
                  <a:lnTo>
                    <a:pt x="1468" y="623"/>
                  </a:lnTo>
                  <a:lnTo>
                    <a:pt x="1498" y="630"/>
                  </a:lnTo>
                  <a:lnTo>
                    <a:pt x="1556" y="646"/>
                  </a:lnTo>
                  <a:lnTo>
                    <a:pt x="1669" y="678"/>
                  </a:lnTo>
                  <a:lnTo>
                    <a:pt x="1724" y="693"/>
                  </a:lnTo>
                  <a:lnTo>
                    <a:pt x="1751" y="699"/>
                  </a:lnTo>
                  <a:lnTo>
                    <a:pt x="1777" y="705"/>
                  </a:lnTo>
                  <a:lnTo>
                    <a:pt x="1804" y="711"/>
                  </a:lnTo>
                  <a:lnTo>
                    <a:pt x="1831" y="715"/>
                  </a:lnTo>
                  <a:lnTo>
                    <a:pt x="1844" y="717"/>
                  </a:lnTo>
                  <a:lnTo>
                    <a:pt x="1857" y="719"/>
                  </a:lnTo>
                  <a:lnTo>
                    <a:pt x="1883" y="722"/>
                  </a:lnTo>
                  <a:lnTo>
                    <a:pt x="1909" y="723"/>
                  </a:lnTo>
                  <a:lnTo>
                    <a:pt x="1936" y="724"/>
                  </a:lnTo>
                  <a:lnTo>
                    <a:pt x="1962" y="723"/>
                  </a:lnTo>
                  <a:lnTo>
                    <a:pt x="1988" y="721"/>
                  </a:lnTo>
                  <a:lnTo>
                    <a:pt x="2012" y="718"/>
                  </a:lnTo>
                  <a:lnTo>
                    <a:pt x="2024" y="716"/>
                  </a:lnTo>
                  <a:lnTo>
                    <a:pt x="2036" y="714"/>
                  </a:lnTo>
                  <a:lnTo>
                    <a:pt x="2059" y="710"/>
                  </a:lnTo>
                  <a:lnTo>
                    <a:pt x="2082" y="705"/>
                  </a:lnTo>
                  <a:lnTo>
                    <a:pt x="2104" y="699"/>
                  </a:lnTo>
                  <a:lnTo>
                    <a:pt x="2125" y="693"/>
                  </a:lnTo>
                  <a:lnTo>
                    <a:pt x="2147" y="686"/>
                  </a:lnTo>
                  <a:lnTo>
                    <a:pt x="2157" y="683"/>
                  </a:lnTo>
                  <a:lnTo>
                    <a:pt x="2167" y="679"/>
                  </a:lnTo>
                  <a:lnTo>
                    <a:pt x="2188" y="671"/>
                  </a:lnTo>
                  <a:lnTo>
                    <a:pt x="2208" y="662"/>
                  </a:lnTo>
                  <a:lnTo>
                    <a:pt x="2228" y="653"/>
                  </a:lnTo>
                  <a:lnTo>
                    <a:pt x="2238" y="648"/>
                  </a:lnTo>
                  <a:lnTo>
                    <a:pt x="2247" y="644"/>
                  </a:lnTo>
                  <a:lnTo>
                    <a:pt x="2266" y="633"/>
                  </a:lnTo>
                  <a:lnTo>
                    <a:pt x="2285" y="623"/>
                  </a:lnTo>
                  <a:lnTo>
                    <a:pt x="2303" y="611"/>
                  </a:lnTo>
                  <a:lnTo>
                    <a:pt x="2322" y="600"/>
                  </a:lnTo>
                  <a:lnTo>
                    <a:pt x="2339" y="587"/>
                  </a:lnTo>
                  <a:lnTo>
                    <a:pt x="2357" y="574"/>
                  </a:lnTo>
                  <a:lnTo>
                    <a:pt x="2375" y="561"/>
                  </a:lnTo>
                  <a:lnTo>
                    <a:pt x="2392" y="547"/>
                  </a:lnTo>
                  <a:lnTo>
                    <a:pt x="2409" y="533"/>
                  </a:lnTo>
                  <a:lnTo>
                    <a:pt x="2426" y="519"/>
                  </a:lnTo>
                  <a:lnTo>
                    <a:pt x="2460" y="489"/>
                  </a:lnTo>
                  <a:lnTo>
                    <a:pt x="2494" y="457"/>
                  </a:lnTo>
                  <a:lnTo>
                    <a:pt x="2528" y="424"/>
                  </a:lnTo>
                  <a:lnTo>
                    <a:pt x="2562" y="390"/>
                  </a:lnTo>
                  <a:lnTo>
                    <a:pt x="2597" y="354"/>
                  </a:lnTo>
                  <a:lnTo>
                    <a:pt x="2682" y="264"/>
                  </a:lnTo>
                  <a:lnTo>
                    <a:pt x="2727" y="217"/>
                  </a:lnTo>
                  <a:lnTo>
                    <a:pt x="2750" y="194"/>
                  </a:lnTo>
                  <a:lnTo>
                    <a:pt x="2773" y="170"/>
                  </a:lnTo>
                  <a:lnTo>
                    <a:pt x="2819" y="124"/>
                  </a:lnTo>
                  <a:lnTo>
                    <a:pt x="2843" y="102"/>
                  </a:lnTo>
                  <a:lnTo>
                    <a:pt x="2867" y="80"/>
                  </a:lnTo>
                  <a:lnTo>
                    <a:pt x="2890" y="59"/>
                  </a:lnTo>
                  <a:lnTo>
                    <a:pt x="2914" y="38"/>
                  </a:lnTo>
                  <a:lnTo>
                    <a:pt x="2938" y="19"/>
                  </a:lnTo>
                  <a:lnTo>
                    <a:pt x="2961" y="0"/>
                  </a:lnTo>
                  <a:lnTo>
                    <a:pt x="2961" y="358"/>
                  </a:lnTo>
                  <a:lnTo>
                    <a:pt x="2942" y="385"/>
                  </a:lnTo>
                  <a:lnTo>
                    <a:pt x="2920" y="414"/>
                  </a:lnTo>
                  <a:lnTo>
                    <a:pt x="2895" y="445"/>
                  </a:lnTo>
                  <a:lnTo>
                    <a:pt x="2882" y="461"/>
                  </a:lnTo>
                  <a:lnTo>
                    <a:pt x="2867" y="479"/>
                  </a:lnTo>
                  <a:lnTo>
                    <a:pt x="2851" y="496"/>
                  </a:lnTo>
                  <a:lnTo>
                    <a:pt x="2833" y="515"/>
                  </a:lnTo>
                  <a:lnTo>
                    <a:pt x="2814" y="534"/>
                  </a:lnTo>
                  <a:lnTo>
                    <a:pt x="2793" y="554"/>
                  </a:lnTo>
                  <a:lnTo>
                    <a:pt x="2771" y="575"/>
                  </a:lnTo>
                  <a:lnTo>
                    <a:pt x="2746" y="598"/>
                  </a:lnTo>
                  <a:lnTo>
                    <a:pt x="2720" y="620"/>
                  </a:lnTo>
                  <a:lnTo>
                    <a:pt x="2691" y="644"/>
                  </a:lnTo>
                  <a:lnTo>
                    <a:pt x="2664" y="665"/>
                  </a:lnTo>
                  <a:lnTo>
                    <a:pt x="2636" y="684"/>
                  </a:lnTo>
                  <a:lnTo>
                    <a:pt x="2623" y="693"/>
                  </a:lnTo>
                  <a:lnTo>
                    <a:pt x="2609" y="702"/>
                  </a:lnTo>
                  <a:lnTo>
                    <a:pt x="2595" y="710"/>
                  </a:lnTo>
                  <a:lnTo>
                    <a:pt x="2581" y="718"/>
                  </a:lnTo>
                  <a:lnTo>
                    <a:pt x="2567" y="726"/>
                  </a:lnTo>
                  <a:lnTo>
                    <a:pt x="2553" y="733"/>
                  </a:lnTo>
                  <a:lnTo>
                    <a:pt x="2525" y="746"/>
                  </a:lnTo>
                  <a:lnTo>
                    <a:pt x="2496" y="758"/>
                  </a:lnTo>
                  <a:lnTo>
                    <a:pt x="2468" y="769"/>
                  </a:lnTo>
                  <a:lnTo>
                    <a:pt x="2454" y="773"/>
                  </a:lnTo>
                  <a:lnTo>
                    <a:pt x="2439" y="778"/>
                  </a:lnTo>
                  <a:lnTo>
                    <a:pt x="2425" y="782"/>
                  </a:lnTo>
                  <a:lnTo>
                    <a:pt x="2411" y="786"/>
                  </a:lnTo>
                  <a:lnTo>
                    <a:pt x="2382" y="793"/>
                  </a:lnTo>
                  <a:lnTo>
                    <a:pt x="2354" y="798"/>
                  </a:lnTo>
                  <a:lnTo>
                    <a:pt x="2325" y="803"/>
                  </a:lnTo>
                  <a:lnTo>
                    <a:pt x="2296" y="806"/>
                  </a:lnTo>
                  <a:lnTo>
                    <a:pt x="2268" y="809"/>
                  </a:lnTo>
                  <a:lnTo>
                    <a:pt x="2239" y="810"/>
                  </a:lnTo>
                  <a:lnTo>
                    <a:pt x="2210" y="811"/>
                  </a:lnTo>
                  <a:lnTo>
                    <a:pt x="2182" y="811"/>
                  </a:lnTo>
                  <a:lnTo>
                    <a:pt x="2154" y="810"/>
                  </a:lnTo>
                  <a:lnTo>
                    <a:pt x="2126" y="808"/>
                  </a:lnTo>
                  <a:lnTo>
                    <a:pt x="2098" y="805"/>
                  </a:lnTo>
                  <a:lnTo>
                    <a:pt x="2070" y="802"/>
                  </a:lnTo>
                  <a:lnTo>
                    <a:pt x="2043" y="798"/>
                  </a:lnTo>
                  <a:lnTo>
                    <a:pt x="2016" y="793"/>
                  </a:lnTo>
                  <a:lnTo>
                    <a:pt x="1989" y="788"/>
                  </a:lnTo>
                  <a:lnTo>
                    <a:pt x="1962" y="783"/>
                  </a:lnTo>
                  <a:lnTo>
                    <a:pt x="1936" y="777"/>
                  </a:lnTo>
                  <a:lnTo>
                    <a:pt x="1910" y="771"/>
                  </a:lnTo>
                  <a:lnTo>
                    <a:pt x="1885" y="764"/>
                  </a:lnTo>
                  <a:lnTo>
                    <a:pt x="1859" y="757"/>
                  </a:lnTo>
                  <a:lnTo>
                    <a:pt x="1810" y="743"/>
                  </a:lnTo>
                  <a:lnTo>
                    <a:pt x="1771" y="731"/>
                  </a:lnTo>
                  <a:lnTo>
                    <a:pt x="1731" y="719"/>
                  </a:lnTo>
                  <a:lnTo>
                    <a:pt x="1690" y="708"/>
                  </a:lnTo>
                  <a:lnTo>
                    <a:pt x="1647" y="698"/>
                  </a:lnTo>
                  <a:lnTo>
                    <a:pt x="1603" y="689"/>
                  </a:lnTo>
                  <a:lnTo>
                    <a:pt x="1581" y="684"/>
                  </a:lnTo>
                  <a:lnTo>
                    <a:pt x="1559" y="680"/>
                  </a:lnTo>
                  <a:lnTo>
                    <a:pt x="1536" y="677"/>
                  </a:lnTo>
                  <a:lnTo>
                    <a:pt x="1514" y="674"/>
                  </a:lnTo>
                  <a:lnTo>
                    <a:pt x="1491" y="671"/>
                  </a:lnTo>
                  <a:lnTo>
                    <a:pt x="1468" y="668"/>
                  </a:lnTo>
                  <a:lnTo>
                    <a:pt x="1444" y="666"/>
                  </a:lnTo>
                  <a:lnTo>
                    <a:pt x="1421" y="665"/>
                  </a:lnTo>
                  <a:lnTo>
                    <a:pt x="1398" y="664"/>
                  </a:lnTo>
                  <a:lnTo>
                    <a:pt x="1374" y="664"/>
                  </a:lnTo>
                  <a:lnTo>
                    <a:pt x="1350" y="664"/>
                  </a:lnTo>
                  <a:lnTo>
                    <a:pt x="1327" y="665"/>
                  </a:lnTo>
                  <a:lnTo>
                    <a:pt x="1303" y="666"/>
                  </a:lnTo>
                  <a:lnTo>
                    <a:pt x="1291" y="667"/>
                  </a:lnTo>
                  <a:lnTo>
                    <a:pt x="1279" y="668"/>
                  </a:lnTo>
                  <a:lnTo>
                    <a:pt x="1255" y="671"/>
                  </a:lnTo>
                  <a:lnTo>
                    <a:pt x="1231" y="675"/>
                  </a:lnTo>
                  <a:lnTo>
                    <a:pt x="1207" y="679"/>
                  </a:lnTo>
                  <a:lnTo>
                    <a:pt x="1183" y="684"/>
                  </a:lnTo>
                  <a:lnTo>
                    <a:pt x="1159" y="690"/>
                  </a:lnTo>
                  <a:lnTo>
                    <a:pt x="1147" y="693"/>
                  </a:lnTo>
                  <a:lnTo>
                    <a:pt x="1136" y="697"/>
                  </a:lnTo>
                  <a:lnTo>
                    <a:pt x="1112" y="705"/>
                  </a:lnTo>
                  <a:lnTo>
                    <a:pt x="1088" y="713"/>
                  </a:lnTo>
                  <a:lnTo>
                    <a:pt x="1077" y="717"/>
                  </a:lnTo>
                  <a:lnTo>
                    <a:pt x="1066" y="722"/>
                  </a:lnTo>
                  <a:lnTo>
                    <a:pt x="1044" y="732"/>
                  </a:lnTo>
                  <a:lnTo>
                    <a:pt x="1023" y="743"/>
                  </a:lnTo>
                  <a:lnTo>
                    <a:pt x="1002" y="754"/>
                  </a:lnTo>
                  <a:lnTo>
                    <a:pt x="982" y="766"/>
                  </a:lnTo>
                  <a:lnTo>
                    <a:pt x="961" y="779"/>
                  </a:lnTo>
                  <a:lnTo>
                    <a:pt x="941" y="793"/>
                  </a:lnTo>
                  <a:lnTo>
                    <a:pt x="921" y="807"/>
                  </a:lnTo>
                  <a:lnTo>
                    <a:pt x="881" y="837"/>
                  </a:lnTo>
                  <a:lnTo>
                    <a:pt x="841" y="869"/>
                  </a:lnTo>
                  <a:lnTo>
                    <a:pt x="760" y="936"/>
                  </a:lnTo>
                  <a:lnTo>
                    <a:pt x="718" y="971"/>
                  </a:lnTo>
                  <a:lnTo>
                    <a:pt x="675" y="1005"/>
                  </a:lnTo>
                  <a:lnTo>
                    <a:pt x="653" y="1023"/>
                  </a:lnTo>
                  <a:lnTo>
                    <a:pt x="631" y="1040"/>
                  </a:lnTo>
                  <a:lnTo>
                    <a:pt x="608" y="1057"/>
                  </a:lnTo>
                  <a:lnTo>
                    <a:pt x="585" y="1073"/>
                  </a:lnTo>
                  <a:lnTo>
                    <a:pt x="562" y="1090"/>
                  </a:lnTo>
                  <a:lnTo>
                    <a:pt x="537" y="1106"/>
                  </a:lnTo>
                  <a:lnTo>
                    <a:pt x="512" y="1121"/>
                  </a:lnTo>
                  <a:lnTo>
                    <a:pt x="487" y="1136"/>
                  </a:lnTo>
                  <a:lnTo>
                    <a:pt x="461" y="1151"/>
                  </a:lnTo>
                  <a:lnTo>
                    <a:pt x="434" y="1165"/>
                  </a:lnTo>
                  <a:lnTo>
                    <a:pt x="406" y="1178"/>
                  </a:lnTo>
                  <a:lnTo>
                    <a:pt x="377" y="1191"/>
                  </a:lnTo>
                  <a:lnTo>
                    <a:pt x="0" y="1191"/>
                  </a:lnTo>
                  <a:lnTo>
                    <a:pt x="30" y="1181"/>
                  </a:lnTo>
                  <a:lnTo>
                    <a:pt x="62" y="1170"/>
                  </a:lnTo>
                  <a:lnTo>
                    <a:pt x="94" y="1158"/>
                  </a:lnTo>
                  <a:lnTo>
                    <a:pt x="127" y="1145"/>
                  </a:lnTo>
                  <a:lnTo>
                    <a:pt x="152" y="1134"/>
                  </a:lnTo>
                  <a:lnTo>
                    <a:pt x="176" y="1122"/>
                  </a:lnTo>
                  <a:lnTo>
                    <a:pt x="201" y="1109"/>
                  </a:lnTo>
                  <a:lnTo>
                    <a:pt x="226" y="1094"/>
                  </a:lnTo>
                  <a:lnTo>
                    <a:pt x="251" y="1078"/>
                  </a:lnTo>
                  <a:lnTo>
                    <a:pt x="276" y="1061"/>
                  </a:lnTo>
                  <a:lnTo>
                    <a:pt x="302" y="1043"/>
                  </a:lnTo>
                  <a:lnTo>
                    <a:pt x="327" y="1024"/>
                  </a:lnTo>
                  <a:lnTo>
                    <a:pt x="379" y="983"/>
                  </a:lnTo>
                  <a:lnTo>
                    <a:pt x="432" y="941"/>
                  </a:lnTo>
                  <a:lnTo>
                    <a:pt x="486" y="898"/>
                  </a:lnTo>
                  <a:lnTo>
                    <a:pt x="542" y="854"/>
                  </a:lnTo>
                  <a:lnTo>
                    <a:pt x="598" y="810"/>
                  </a:lnTo>
                  <a:lnTo>
                    <a:pt x="627" y="789"/>
                  </a:lnTo>
                  <a:lnTo>
                    <a:pt x="642" y="779"/>
                  </a:lnTo>
                  <a:lnTo>
                    <a:pt x="656" y="768"/>
                  </a:lnTo>
                  <a:lnTo>
                    <a:pt x="686" y="748"/>
                  </a:lnTo>
                  <a:lnTo>
                    <a:pt x="701" y="738"/>
                  </a:lnTo>
                  <a:lnTo>
                    <a:pt x="716" y="729"/>
                  </a:lnTo>
                  <a:lnTo>
                    <a:pt x="747" y="710"/>
                  </a:lnTo>
                  <a:lnTo>
                    <a:pt x="778" y="692"/>
                  </a:lnTo>
                  <a:lnTo>
                    <a:pt x="809" y="675"/>
                  </a:lnTo>
                  <a:lnTo>
                    <a:pt x="840" y="660"/>
                  </a:lnTo>
                  <a:lnTo>
                    <a:pt x="872" y="645"/>
                  </a:lnTo>
                  <a:lnTo>
                    <a:pt x="888" y="639"/>
                  </a:lnTo>
                  <a:lnTo>
                    <a:pt x="905" y="632"/>
                  </a:lnTo>
                  <a:lnTo>
                    <a:pt x="921" y="626"/>
                  </a:lnTo>
                  <a:lnTo>
                    <a:pt x="937" y="621"/>
                  </a:lnTo>
                  <a:lnTo>
                    <a:pt x="954" y="615"/>
                  </a:lnTo>
                  <a:lnTo>
                    <a:pt x="971" y="611"/>
                  </a:lnTo>
                  <a:lnTo>
                    <a:pt x="1005" y="602"/>
                  </a:lnTo>
                  <a:lnTo>
                    <a:pt x="1022" y="599"/>
                  </a:lnTo>
                  <a:lnTo>
                    <a:pt x="1039" y="596"/>
                  </a:lnTo>
                  <a:close/>
                </a:path>
              </a:pathLst>
            </a:custGeom>
            <a:gradFill rotWithShape="0">
              <a:gsLst>
                <a:gs pos="0">
                  <a:srgbClr val="fef8ba"/>
                </a:gs>
                <a:gs pos="100000">
                  <a:srgbClr val="fcf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1074600" indent="-26820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1346040" indent="-269640">
              <a:spcAft>
                <a:spcPts val="601"/>
              </a:spcAft>
              <a:buClr>
                <a:srgbClr val="009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5" name="Picture 22" descr="logo_rgb"/>
          <p:cNvPicPr/>
          <p:nvPr/>
        </p:nvPicPr>
        <p:blipFill>
          <a:blip r:embed="rId2"/>
          <a:stretch/>
        </p:blipFill>
        <p:spPr>
          <a:xfrm>
            <a:off x="1079640" y="6548400"/>
            <a:ext cx="2230200" cy="21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81164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unimi Sukunim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0664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6A3-8630-4C8D-B8F5-BE0D17BAB1B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98616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3D0-430F-49CE-8ED1-D89DAC331519}" type="datetime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"/>
          <p:cNvGrpSpPr/>
          <p:nvPr/>
        </p:nvGrpSpPr>
        <p:grpSpPr>
          <a:xfrm>
            <a:off x="142920" y="1998720"/>
            <a:ext cx="8858160" cy="4706640"/>
            <a:chOff x="142920" y="1998720"/>
            <a:chExt cx="8858160" cy="4706640"/>
          </a:xfrm>
        </p:grpSpPr>
        <p:sp>
          <p:nvSpPr>
            <p:cNvPr id="46" name="Freeform 23"/>
            <p:cNvSpPr/>
            <p:nvPr/>
          </p:nvSpPr>
          <p:spPr>
            <a:xfrm>
              <a:off x="142920" y="1998720"/>
              <a:ext cx="8858160" cy="4186440"/>
            </a:xfrm>
            <a:custGeom>
              <a:avLst/>
              <a:gdLst>
                <a:gd name="textAreaLeft" fmla="*/ 0 w 8858160"/>
                <a:gd name="textAreaRight" fmla="*/ 8858520 w 8858160"/>
                <a:gd name="textAreaTop" fmla="*/ 0 h 4186440"/>
                <a:gd name="textAreaBottom" fmla="*/ 4186800 h 4186440"/>
              </a:gdLst>
              <a:ahLst/>
              <a:rect l="textAreaLeft" t="textAreaTop" r="textAreaRight" b="textAreaBottom"/>
              <a:pathLst>
                <a:path w="5621" h="2657">
                  <a:moveTo>
                    <a:pt x="0" y="2657"/>
                  </a:moveTo>
                  <a:lnTo>
                    <a:pt x="0" y="2037"/>
                  </a:lnTo>
                  <a:lnTo>
                    <a:pt x="68" y="1985"/>
                  </a:lnTo>
                  <a:lnTo>
                    <a:pt x="102" y="1960"/>
                  </a:lnTo>
                  <a:lnTo>
                    <a:pt x="136" y="1934"/>
                  </a:lnTo>
                  <a:lnTo>
                    <a:pt x="171" y="1909"/>
                  </a:lnTo>
                  <a:lnTo>
                    <a:pt x="205" y="1885"/>
                  </a:lnTo>
                  <a:lnTo>
                    <a:pt x="240" y="1859"/>
                  </a:lnTo>
                  <a:lnTo>
                    <a:pt x="275" y="1835"/>
                  </a:lnTo>
                  <a:lnTo>
                    <a:pt x="310" y="1812"/>
                  </a:lnTo>
                  <a:lnTo>
                    <a:pt x="345" y="1787"/>
                  </a:lnTo>
                  <a:lnTo>
                    <a:pt x="382" y="1765"/>
                  </a:lnTo>
                  <a:lnTo>
                    <a:pt x="418" y="1741"/>
                  </a:lnTo>
                  <a:lnTo>
                    <a:pt x="454" y="1719"/>
                  </a:lnTo>
                  <a:lnTo>
                    <a:pt x="490" y="1698"/>
                  </a:lnTo>
                  <a:lnTo>
                    <a:pt x="526" y="1676"/>
                  </a:lnTo>
                  <a:lnTo>
                    <a:pt x="564" y="1656"/>
                  </a:lnTo>
                  <a:lnTo>
                    <a:pt x="600" y="1636"/>
                  </a:lnTo>
                  <a:lnTo>
                    <a:pt x="638" y="1616"/>
                  </a:lnTo>
                  <a:lnTo>
                    <a:pt x="676" y="1598"/>
                  </a:lnTo>
                  <a:lnTo>
                    <a:pt x="713" y="1580"/>
                  </a:lnTo>
                  <a:lnTo>
                    <a:pt x="752" y="1563"/>
                  </a:lnTo>
                  <a:lnTo>
                    <a:pt x="789" y="1546"/>
                  </a:lnTo>
                  <a:lnTo>
                    <a:pt x="828" y="1530"/>
                  </a:lnTo>
                  <a:lnTo>
                    <a:pt x="868" y="1515"/>
                  </a:lnTo>
                  <a:lnTo>
                    <a:pt x="887" y="1508"/>
                  </a:lnTo>
                  <a:lnTo>
                    <a:pt x="906" y="1501"/>
                  </a:lnTo>
                  <a:lnTo>
                    <a:pt x="946" y="1488"/>
                  </a:lnTo>
                  <a:lnTo>
                    <a:pt x="985" y="1475"/>
                  </a:lnTo>
                  <a:lnTo>
                    <a:pt x="1025" y="1464"/>
                  </a:lnTo>
                  <a:lnTo>
                    <a:pt x="1066" y="1454"/>
                  </a:lnTo>
                  <a:lnTo>
                    <a:pt x="1106" y="1445"/>
                  </a:lnTo>
                  <a:lnTo>
                    <a:pt x="1127" y="1441"/>
                  </a:lnTo>
                  <a:lnTo>
                    <a:pt x="1147" y="1437"/>
                  </a:lnTo>
                  <a:lnTo>
                    <a:pt x="1189" y="1430"/>
                  </a:lnTo>
                  <a:lnTo>
                    <a:pt x="1234" y="1422"/>
                  </a:lnTo>
                  <a:lnTo>
                    <a:pt x="1257" y="1419"/>
                  </a:lnTo>
                  <a:lnTo>
                    <a:pt x="1280" y="1416"/>
                  </a:lnTo>
                  <a:lnTo>
                    <a:pt x="1326" y="1411"/>
                  </a:lnTo>
                  <a:lnTo>
                    <a:pt x="1370" y="1407"/>
                  </a:lnTo>
                  <a:lnTo>
                    <a:pt x="1414" y="1404"/>
                  </a:lnTo>
                  <a:lnTo>
                    <a:pt x="1459" y="1402"/>
                  </a:lnTo>
                  <a:lnTo>
                    <a:pt x="1503" y="1401"/>
                  </a:lnTo>
                  <a:lnTo>
                    <a:pt x="1546" y="1400"/>
                  </a:lnTo>
                  <a:lnTo>
                    <a:pt x="1580" y="1400"/>
                  </a:lnTo>
                  <a:lnTo>
                    <a:pt x="1613" y="1401"/>
                  </a:lnTo>
                  <a:lnTo>
                    <a:pt x="1647" y="1402"/>
                  </a:lnTo>
                  <a:lnTo>
                    <a:pt x="1680" y="1404"/>
                  </a:lnTo>
                  <a:lnTo>
                    <a:pt x="1713" y="1406"/>
                  </a:lnTo>
                  <a:lnTo>
                    <a:pt x="1746" y="1409"/>
                  </a:lnTo>
                  <a:lnTo>
                    <a:pt x="1763" y="1410"/>
                  </a:lnTo>
                  <a:lnTo>
                    <a:pt x="1779" y="1412"/>
                  </a:lnTo>
                  <a:lnTo>
                    <a:pt x="1811" y="1415"/>
                  </a:lnTo>
                  <a:lnTo>
                    <a:pt x="1843" y="1418"/>
                  </a:lnTo>
                  <a:lnTo>
                    <a:pt x="1875" y="1423"/>
                  </a:lnTo>
                  <a:lnTo>
                    <a:pt x="1907" y="1427"/>
                  </a:lnTo>
                  <a:lnTo>
                    <a:pt x="1938" y="1433"/>
                  </a:lnTo>
                  <a:lnTo>
                    <a:pt x="2001" y="1443"/>
                  </a:lnTo>
                  <a:lnTo>
                    <a:pt x="2063" y="1454"/>
                  </a:lnTo>
                  <a:lnTo>
                    <a:pt x="2124" y="1467"/>
                  </a:lnTo>
                  <a:lnTo>
                    <a:pt x="2185" y="1480"/>
                  </a:lnTo>
                  <a:lnTo>
                    <a:pt x="2245" y="1495"/>
                  </a:lnTo>
                  <a:lnTo>
                    <a:pt x="2304" y="1510"/>
                  </a:lnTo>
                  <a:lnTo>
                    <a:pt x="2363" y="1525"/>
                  </a:lnTo>
                  <a:lnTo>
                    <a:pt x="2421" y="1541"/>
                  </a:lnTo>
                  <a:lnTo>
                    <a:pt x="2478" y="1557"/>
                  </a:lnTo>
                  <a:lnTo>
                    <a:pt x="2536" y="1573"/>
                  </a:lnTo>
                  <a:lnTo>
                    <a:pt x="2647" y="1605"/>
                  </a:lnTo>
                  <a:lnTo>
                    <a:pt x="2758" y="1637"/>
                  </a:lnTo>
                  <a:lnTo>
                    <a:pt x="2813" y="1651"/>
                  </a:lnTo>
                  <a:lnTo>
                    <a:pt x="2867" y="1666"/>
                  </a:lnTo>
                  <a:lnTo>
                    <a:pt x="2921" y="1679"/>
                  </a:lnTo>
                  <a:lnTo>
                    <a:pt x="2975" y="1692"/>
                  </a:lnTo>
                  <a:lnTo>
                    <a:pt x="3028" y="1704"/>
                  </a:lnTo>
                  <a:lnTo>
                    <a:pt x="3055" y="1709"/>
                  </a:lnTo>
                  <a:lnTo>
                    <a:pt x="3081" y="1714"/>
                  </a:lnTo>
                  <a:lnTo>
                    <a:pt x="3134" y="1723"/>
                  </a:lnTo>
                  <a:lnTo>
                    <a:pt x="3160" y="1727"/>
                  </a:lnTo>
                  <a:lnTo>
                    <a:pt x="3187" y="1731"/>
                  </a:lnTo>
                  <a:lnTo>
                    <a:pt x="3213" y="1734"/>
                  </a:lnTo>
                  <a:lnTo>
                    <a:pt x="3239" y="1737"/>
                  </a:lnTo>
                  <a:lnTo>
                    <a:pt x="3292" y="1742"/>
                  </a:lnTo>
                  <a:lnTo>
                    <a:pt x="3317" y="1743"/>
                  </a:lnTo>
                  <a:lnTo>
                    <a:pt x="3343" y="1744"/>
                  </a:lnTo>
                  <a:lnTo>
                    <a:pt x="3370" y="1745"/>
                  </a:lnTo>
                  <a:lnTo>
                    <a:pt x="3395" y="1745"/>
                  </a:lnTo>
                  <a:lnTo>
                    <a:pt x="3430" y="1745"/>
                  </a:lnTo>
                  <a:lnTo>
                    <a:pt x="3463" y="1744"/>
                  </a:lnTo>
                  <a:lnTo>
                    <a:pt x="3497" y="1741"/>
                  </a:lnTo>
                  <a:lnTo>
                    <a:pt x="3531" y="1738"/>
                  </a:lnTo>
                  <a:lnTo>
                    <a:pt x="3562" y="1735"/>
                  </a:lnTo>
                  <a:lnTo>
                    <a:pt x="3591" y="1731"/>
                  </a:lnTo>
                  <a:lnTo>
                    <a:pt x="3621" y="1726"/>
                  </a:lnTo>
                  <a:lnTo>
                    <a:pt x="3650" y="1722"/>
                  </a:lnTo>
                  <a:lnTo>
                    <a:pt x="3679" y="1717"/>
                  </a:lnTo>
                  <a:lnTo>
                    <a:pt x="3707" y="1711"/>
                  </a:lnTo>
                  <a:lnTo>
                    <a:pt x="3735" y="1705"/>
                  </a:lnTo>
                  <a:lnTo>
                    <a:pt x="3763" y="1699"/>
                  </a:lnTo>
                  <a:lnTo>
                    <a:pt x="3790" y="1692"/>
                  </a:lnTo>
                  <a:lnTo>
                    <a:pt x="3818" y="1685"/>
                  </a:lnTo>
                  <a:lnTo>
                    <a:pt x="3844" y="1677"/>
                  </a:lnTo>
                  <a:lnTo>
                    <a:pt x="3872" y="1669"/>
                  </a:lnTo>
                  <a:lnTo>
                    <a:pt x="3898" y="1661"/>
                  </a:lnTo>
                  <a:lnTo>
                    <a:pt x="3923" y="1653"/>
                  </a:lnTo>
                  <a:lnTo>
                    <a:pt x="3950" y="1644"/>
                  </a:lnTo>
                  <a:lnTo>
                    <a:pt x="3975" y="1635"/>
                  </a:lnTo>
                  <a:lnTo>
                    <a:pt x="4001" y="1625"/>
                  </a:lnTo>
                  <a:lnTo>
                    <a:pt x="4025" y="1614"/>
                  </a:lnTo>
                  <a:lnTo>
                    <a:pt x="4075" y="1593"/>
                  </a:lnTo>
                  <a:lnTo>
                    <a:pt x="4099" y="1582"/>
                  </a:lnTo>
                  <a:lnTo>
                    <a:pt x="4123" y="1571"/>
                  </a:lnTo>
                  <a:lnTo>
                    <a:pt x="4147" y="1560"/>
                  </a:lnTo>
                  <a:lnTo>
                    <a:pt x="4170" y="1547"/>
                  </a:lnTo>
                  <a:lnTo>
                    <a:pt x="4194" y="1535"/>
                  </a:lnTo>
                  <a:lnTo>
                    <a:pt x="4217" y="1522"/>
                  </a:lnTo>
                  <a:lnTo>
                    <a:pt x="4240" y="1509"/>
                  </a:lnTo>
                  <a:lnTo>
                    <a:pt x="4264" y="1496"/>
                  </a:lnTo>
                  <a:lnTo>
                    <a:pt x="4286" y="1482"/>
                  </a:lnTo>
                  <a:lnTo>
                    <a:pt x="4308" y="1468"/>
                  </a:lnTo>
                  <a:lnTo>
                    <a:pt x="4331" y="1454"/>
                  </a:lnTo>
                  <a:lnTo>
                    <a:pt x="4353" y="1439"/>
                  </a:lnTo>
                  <a:lnTo>
                    <a:pt x="4398" y="1409"/>
                  </a:lnTo>
                  <a:lnTo>
                    <a:pt x="4419" y="1394"/>
                  </a:lnTo>
                  <a:lnTo>
                    <a:pt x="4441" y="1378"/>
                  </a:lnTo>
                  <a:lnTo>
                    <a:pt x="4484" y="1345"/>
                  </a:lnTo>
                  <a:lnTo>
                    <a:pt x="4527" y="1312"/>
                  </a:lnTo>
                  <a:lnTo>
                    <a:pt x="4570" y="1277"/>
                  </a:lnTo>
                  <a:lnTo>
                    <a:pt x="4612" y="1242"/>
                  </a:lnTo>
                  <a:lnTo>
                    <a:pt x="4654" y="1205"/>
                  </a:lnTo>
                  <a:lnTo>
                    <a:pt x="4695" y="1167"/>
                  </a:lnTo>
                  <a:lnTo>
                    <a:pt x="4738" y="1129"/>
                  </a:lnTo>
                  <a:lnTo>
                    <a:pt x="4780" y="1089"/>
                  </a:lnTo>
                  <a:lnTo>
                    <a:pt x="4800" y="1070"/>
                  </a:lnTo>
                  <a:lnTo>
                    <a:pt x="4821" y="1050"/>
                  </a:lnTo>
                  <a:lnTo>
                    <a:pt x="4863" y="1008"/>
                  </a:lnTo>
                  <a:lnTo>
                    <a:pt x="4905" y="966"/>
                  </a:lnTo>
                  <a:lnTo>
                    <a:pt x="4947" y="923"/>
                  </a:lnTo>
                  <a:lnTo>
                    <a:pt x="5033" y="834"/>
                  </a:lnTo>
                  <a:lnTo>
                    <a:pt x="5052" y="814"/>
                  </a:lnTo>
                  <a:lnTo>
                    <a:pt x="5071" y="793"/>
                  </a:lnTo>
                  <a:lnTo>
                    <a:pt x="5091" y="771"/>
                  </a:lnTo>
                  <a:lnTo>
                    <a:pt x="5110" y="749"/>
                  </a:lnTo>
                  <a:lnTo>
                    <a:pt x="5148" y="702"/>
                  </a:lnTo>
                  <a:lnTo>
                    <a:pt x="5167" y="678"/>
                  </a:lnTo>
                  <a:lnTo>
                    <a:pt x="5185" y="653"/>
                  </a:lnTo>
                  <a:lnTo>
                    <a:pt x="5223" y="604"/>
                  </a:lnTo>
                  <a:lnTo>
                    <a:pt x="5241" y="578"/>
                  </a:lnTo>
                  <a:lnTo>
                    <a:pt x="5260" y="552"/>
                  </a:lnTo>
                  <a:lnTo>
                    <a:pt x="5297" y="499"/>
                  </a:lnTo>
                  <a:lnTo>
                    <a:pt x="5333" y="445"/>
                  </a:lnTo>
                  <a:lnTo>
                    <a:pt x="5370" y="390"/>
                  </a:lnTo>
                  <a:lnTo>
                    <a:pt x="5407" y="335"/>
                  </a:lnTo>
                  <a:lnTo>
                    <a:pt x="5478" y="223"/>
                  </a:lnTo>
                  <a:lnTo>
                    <a:pt x="5550" y="111"/>
                  </a:lnTo>
                  <a:lnTo>
                    <a:pt x="5621" y="0"/>
                  </a:lnTo>
                  <a:lnTo>
                    <a:pt x="5621" y="614"/>
                  </a:lnTo>
                  <a:lnTo>
                    <a:pt x="5621" y="1227"/>
                  </a:lnTo>
                  <a:lnTo>
                    <a:pt x="5586" y="1263"/>
                  </a:lnTo>
                  <a:lnTo>
                    <a:pt x="5548" y="1300"/>
                  </a:lnTo>
                  <a:lnTo>
                    <a:pt x="5508" y="1338"/>
                  </a:lnTo>
                  <a:lnTo>
                    <a:pt x="5487" y="1357"/>
                  </a:lnTo>
                  <a:lnTo>
                    <a:pt x="5466" y="1378"/>
                  </a:lnTo>
                  <a:lnTo>
                    <a:pt x="5420" y="1418"/>
                  </a:lnTo>
                  <a:lnTo>
                    <a:pt x="5372" y="1460"/>
                  </a:lnTo>
                  <a:lnTo>
                    <a:pt x="5320" y="1503"/>
                  </a:lnTo>
                  <a:lnTo>
                    <a:pt x="5266" y="1547"/>
                  </a:lnTo>
                  <a:lnTo>
                    <a:pt x="5230" y="1576"/>
                  </a:lnTo>
                  <a:lnTo>
                    <a:pt x="5194" y="1603"/>
                  </a:lnTo>
                  <a:lnTo>
                    <a:pt x="5158" y="1629"/>
                  </a:lnTo>
                  <a:lnTo>
                    <a:pt x="5121" y="1654"/>
                  </a:lnTo>
                  <a:lnTo>
                    <a:pt x="5085" y="1677"/>
                  </a:lnTo>
                  <a:lnTo>
                    <a:pt x="5047" y="1701"/>
                  </a:lnTo>
                  <a:lnTo>
                    <a:pt x="5010" y="1722"/>
                  </a:lnTo>
                  <a:lnTo>
                    <a:pt x="4974" y="1742"/>
                  </a:lnTo>
                  <a:lnTo>
                    <a:pt x="4936" y="1762"/>
                  </a:lnTo>
                  <a:lnTo>
                    <a:pt x="4899" y="1780"/>
                  </a:lnTo>
                  <a:lnTo>
                    <a:pt x="4861" y="1797"/>
                  </a:lnTo>
                  <a:lnTo>
                    <a:pt x="4824" y="1814"/>
                  </a:lnTo>
                  <a:lnTo>
                    <a:pt x="4787" y="1830"/>
                  </a:lnTo>
                  <a:lnTo>
                    <a:pt x="4749" y="1844"/>
                  </a:lnTo>
                  <a:lnTo>
                    <a:pt x="4711" y="1857"/>
                  </a:lnTo>
                  <a:lnTo>
                    <a:pt x="4673" y="1870"/>
                  </a:lnTo>
                  <a:lnTo>
                    <a:pt x="4636" y="1882"/>
                  </a:lnTo>
                  <a:lnTo>
                    <a:pt x="4598" y="1893"/>
                  </a:lnTo>
                  <a:lnTo>
                    <a:pt x="4560" y="1902"/>
                  </a:lnTo>
                  <a:lnTo>
                    <a:pt x="4522" y="1911"/>
                  </a:lnTo>
                  <a:lnTo>
                    <a:pt x="4484" y="1920"/>
                  </a:lnTo>
                  <a:lnTo>
                    <a:pt x="4447" y="1927"/>
                  </a:lnTo>
                  <a:lnTo>
                    <a:pt x="4408" y="1933"/>
                  </a:lnTo>
                  <a:lnTo>
                    <a:pt x="4370" y="1940"/>
                  </a:lnTo>
                  <a:lnTo>
                    <a:pt x="4333" y="1945"/>
                  </a:lnTo>
                  <a:lnTo>
                    <a:pt x="4294" y="1949"/>
                  </a:lnTo>
                  <a:lnTo>
                    <a:pt x="4257" y="1953"/>
                  </a:lnTo>
                  <a:lnTo>
                    <a:pt x="4219" y="1956"/>
                  </a:lnTo>
                  <a:lnTo>
                    <a:pt x="4181" y="1958"/>
                  </a:lnTo>
                  <a:lnTo>
                    <a:pt x="4144" y="1960"/>
                  </a:lnTo>
                  <a:lnTo>
                    <a:pt x="4106" y="1961"/>
                  </a:lnTo>
                  <a:lnTo>
                    <a:pt x="4069" y="1961"/>
                  </a:lnTo>
                  <a:lnTo>
                    <a:pt x="4036" y="1961"/>
                  </a:lnTo>
                  <a:lnTo>
                    <a:pt x="4004" y="1960"/>
                  </a:lnTo>
                  <a:lnTo>
                    <a:pt x="3972" y="1959"/>
                  </a:lnTo>
                  <a:lnTo>
                    <a:pt x="3940" y="1957"/>
                  </a:lnTo>
                  <a:lnTo>
                    <a:pt x="3907" y="1956"/>
                  </a:lnTo>
                  <a:lnTo>
                    <a:pt x="3876" y="1953"/>
                  </a:lnTo>
                  <a:lnTo>
                    <a:pt x="3844" y="1951"/>
                  </a:lnTo>
                  <a:lnTo>
                    <a:pt x="3812" y="1948"/>
                  </a:lnTo>
                  <a:lnTo>
                    <a:pt x="3780" y="1944"/>
                  </a:lnTo>
                  <a:lnTo>
                    <a:pt x="3749" y="1940"/>
                  </a:lnTo>
                  <a:lnTo>
                    <a:pt x="3717" y="1935"/>
                  </a:lnTo>
                  <a:lnTo>
                    <a:pt x="3686" y="1931"/>
                  </a:lnTo>
                  <a:lnTo>
                    <a:pt x="3655" y="1926"/>
                  </a:lnTo>
                  <a:lnTo>
                    <a:pt x="3624" y="1921"/>
                  </a:lnTo>
                  <a:lnTo>
                    <a:pt x="3562" y="1910"/>
                  </a:lnTo>
                  <a:lnTo>
                    <a:pt x="3531" y="1905"/>
                  </a:lnTo>
                  <a:lnTo>
                    <a:pt x="3501" y="1899"/>
                  </a:lnTo>
                  <a:lnTo>
                    <a:pt x="3441" y="1886"/>
                  </a:lnTo>
                  <a:lnTo>
                    <a:pt x="3381" y="1871"/>
                  </a:lnTo>
                  <a:lnTo>
                    <a:pt x="3321" y="1856"/>
                  </a:lnTo>
                  <a:lnTo>
                    <a:pt x="3263" y="1841"/>
                  </a:lnTo>
                  <a:lnTo>
                    <a:pt x="3205" y="1826"/>
                  </a:lnTo>
                  <a:lnTo>
                    <a:pt x="3148" y="1808"/>
                  </a:lnTo>
                  <a:lnTo>
                    <a:pt x="3092" y="1792"/>
                  </a:lnTo>
                  <a:lnTo>
                    <a:pt x="3032" y="1774"/>
                  </a:lnTo>
                  <a:lnTo>
                    <a:pt x="2971" y="1756"/>
                  </a:lnTo>
                  <a:lnTo>
                    <a:pt x="2909" y="1737"/>
                  </a:lnTo>
                  <a:lnTo>
                    <a:pt x="2846" y="1720"/>
                  </a:lnTo>
                  <a:lnTo>
                    <a:pt x="2813" y="1712"/>
                  </a:lnTo>
                  <a:lnTo>
                    <a:pt x="2781" y="1704"/>
                  </a:lnTo>
                  <a:lnTo>
                    <a:pt x="2747" y="1696"/>
                  </a:lnTo>
                  <a:lnTo>
                    <a:pt x="2714" y="1688"/>
                  </a:lnTo>
                  <a:lnTo>
                    <a:pt x="2681" y="1679"/>
                  </a:lnTo>
                  <a:lnTo>
                    <a:pt x="2647" y="1672"/>
                  </a:lnTo>
                  <a:lnTo>
                    <a:pt x="2579" y="1658"/>
                  </a:lnTo>
                  <a:lnTo>
                    <a:pt x="2510" y="1645"/>
                  </a:lnTo>
                  <a:lnTo>
                    <a:pt x="2440" y="1633"/>
                  </a:lnTo>
                  <a:lnTo>
                    <a:pt x="2406" y="1628"/>
                  </a:lnTo>
                  <a:lnTo>
                    <a:pt x="2370" y="1623"/>
                  </a:lnTo>
                  <a:lnTo>
                    <a:pt x="2335" y="1618"/>
                  </a:lnTo>
                  <a:lnTo>
                    <a:pt x="2299" y="1613"/>
                  </a:lnTo>
                  <a:lnTo>
                    <a:pt x="2263" y="1610"/>
                  </a:lnTo>
                  <a:lnTo>
                    <a:pt x="2228" y="1606"/>
                  </a:lnTo>
                  <a:lnTo>
                    <a:pt x="2191" y="1604"/>
                  </a:lnTo>
                  <a:lnTo>
                    <a:pt x="2155" y="1601"/>
                  </a:lnTo>
                  <a:lnTo>
                    <a:pt x="2119" y="1599"/>
                  </a:lnTo>
                  <a:lnTo>
                    <a:pt x="2083" y="1598"/>
                  </a:lnTo>
                  <a:lnTo>
                    <a:pt x="2046" y="1597"/>
                  </a:lnTo>
                  <a:lnTo>
                    <a:pt x="2009" y="1597"/>
                  </a:lnTo>
                  <a:lnTo>
                    <a:pt x="1966" y="1597"/>
                  </a:lnTo>
                  <a:lnTo>
                    <a:pt x="1922" y="1599"/>
                  </a:lnTo>
                  <a:lnTo>
                    <a:pt x="1878" y="1601"/>
                  </a:lnTo>
                  <a:lnTo>
                    <a:pt x="1835" y="1604"/>
                  </a:lnTo>
                  <a:lnTo>
                    <a:pt x="1791" y="1607"/>
                  </a:lnTo>
                  <a:lnTo>
                    <a:pt x="1747" y="1612"/>
                  </a:lnTo>
                  <a:lnTo>
                    <a:pt x="1704" y="1618"/>
                  </a:lnTo>
                  <a:lnTo>
                    <a:pt x="1660" y="1626"/>
                  </a:lnTo>
                  <a:lnTo>
                    <a:pt x="1615" y="1633"/>
                  </a:lnTo>
                  <a:lnTo>
                    <a:pt x="1572" y="1642"/>
                  </a:lnTo>
                  <a:lnTo>
                    <a:pt x="1528" y="1652"/>
                  </a:lnTo>
                  <a:lnTo>
                    <a:pt x="1506" y="1657"/>
                  </a:lnTo>
                  <a:lnTo>
                    <a:pt x="1484" y="1663"/>
                  </a:lnTo>
                  <a:lnTo>
                    <a:pt x="1462" y="1669"/>
                  </a:lnTo>
                  <a:lnTo>
                    <a:pt x="1441" y="1675"/>
                  </a:lnTo>
                  <a:lnTo>
                    <a:pt x="1418" y="1681"/>
                  </a:lnTo>
                  <a:lnTo>
                    <a:pt x="1397" y="1689"/>
                  </a:lnTo>
                  <a:lnTo>
                    <a:pt x="1375" y="1696"/>
                  </a:lnTo>
                  <a:lnTo>
                    <a:pt x="1353" y="1704"/>
                  </a:lnTo>
                  <a:lnTo>
                    <a:pt x="1309" y="1719"/>
                  </a:lnTo>
                  <a:lnTo>
                    <a:pt x="1288" y="1727"/>
                  </a:lnTo>
                  <a:lnTo>
                    <a:pt x="1267" y="1736"/>
                  </a:lnTo>
                  <a:lnTo>
                    <a:pt x="1245" y="1745"/>
                  </a:lnTo>
                  <a:lnTo>
                    <a:pt x="1224" y="1755"/>
                  </a:lnTo>
                  <a:lnTo>
                    <a:pt x="1204" y="1765"/>
                  </a:lnTo>
                  <a:lnTo>
                    <a:pt x="1183" y="1775"/>
                  </a:lnTo>
                  <a:lnTo>
                    <a:pt x="1142" y="1796"/>
                  </a:lnTo>
                  <a:lnTo>
                    <a:pt x="1101" y="1819"/>
                  </a:lnTo>
                  <a:lnTo>
                    <a:pt x="1061" y="1842"/>
                  </a:lnTo>
                  <a:lnTo>
                    <a:pt x="1021" y="1866"/>
                  </a:lnTo>
                  <a:lnTo>
                    <a:pt x="981" y="1892"/>
                  </a:lnTo>
                  <a:lnTo>
                    <a:pt x="942" y="1919"/>
                  </a:lnTo>
                  <a:lnTo>
                    <a:pt x="903" y="1947"/>
                  </a:lnTo>
                  <a:lnTo>
                    <a:pt x="864" y="1975"/>
                  </a:lnTo>
                  <a:lnTo>
                    <a:pt x="825" y="2005"/>
                  </a:lnTo>
                  <a:lnTo>
                    <a:pt x="786" y="2034"/>
                  </a:lnTo>
                  <a:lnTo>
                    <a:pt x="748" y="2066"/>
                  </a:lnTo>
                  <a:lnTo>
                    <a:pt x="709" y="2096"/>
                  </a:lnTo>
                  <a:lnTo>
                    <a:pt x="669" y="2129"/>
                  </a:lnTo>
                  <a:lnTo>
                    <a:pt x="592" y="2194"/>
                  </a:lnTo>
                  <a:lnTo>
                    <a:pt x="513" y="2260"/>
                  </a:lnTo>
                  <a:lnTo>
                    <a:pt x="433" y="2327"/>
                  </a:lnTo>
                  <a:lnTo>
                    <a:pt x="350" y="2394"/>
                  </a:lnTo>
                  <a:lnTo>
                    <a:pt x="310" y="2427"/>
                  </a:lnTo>
                  <a:lnTo>
                    <a:pt x="267" y="2461"/>
                  </a:lnTo>
                  <a:lnTo>
                    <a:pt x="225" y="2494"/>
                  </a:lnTo>
                  <a:lnTo>
                    <a:pt x="181" y="2528"/>
                  </a:lnTo>
                  <a:lnTo>
                    <a:pt x="159" y="2544"/>
                  </a:lnTo>
                  <a:lnTo>
                    <a:pt x="137" y="2560"/>
                  </a:lnTo>
                  <a:lnTo>
                    <a:pt x="92" y="2593"/>
                  </a:lnTo>
                  <a:lnTo>
                    <a:pt x="69" y="2609"/>
                  </a:lnTo>
                  <a:lnTo>
                    <a:pt x="47" y="2625"/>
                  </a:lnTo>
                  <a:lnTo>
                    <a:pt x="23" y="2642"/>
                  </a:lnTo>
                  <a:lnTo>
                    <a:pt x="0" y="2657"/>
                  </a:lnTo>
                  <a:close/>
                </a:path>
              </a:pathLst>
            </a:custGeom>
            <a:gradFill rotWithShape="0">
              <a:gsLst>
                <a:gs pos="0">
                  <a:srgbClr val="fef8ba"/>
                </a:gs>
                <a:gs pos="100000">
                  <a:srgbClr val="fcf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355320" y="4849200"/>
              <a:ext cx="8613720" cy="1856160"/>
            </a:xfrm>
            <a:custGeom>
              <a:avLst/>
              <a:gdLst>
                <a:gd name="textAreaLeft" fmla="*/ 0 w 8613720"/>
                <a:gd name="textAreaRight" fmla="*/ 8614080 w 8613720"/>
                <a:gd name="textAreaTop" fmla="*/ 0 h 1856160"/>
                <a:gd name="textAreaBottom" fmla="*/ 1856520 h 1856160"/>
              </a:gdLst>
              <a:ahLst/>
              <a:rect l="textAreaLeft" t="textAreaTop" r="textAreaRight" b="textAreaBottom"/>
              <a:pathLst>
                <a:path w="5466" h="1178">
                  <a:moveTo>
                    <a:pt x="982" y="1178"/>
                  </a:moveTo>
                  <a:lnTo>
                    <a:pt x="491" y="1178"/>
                  </a:lnTo>
                  <a:lnTo>
                    <a:pt x="0" y="1178"/>
                  </a:lnTo>
                  <a:lnTo>
                    <a:pt x="20" y="1168"/>
                  </a:lnTo>
                  <a:lnTo>
                    <a:pt x="41" y="1157"/>
                  </a:lnTo>
                  <a:lnTo>
                    <a:pt x="79" y="1135"/>
                  </a:lnTo>
                  <a:lnTo>
                    <a:pt x="99" y="1124"/>
                  </a:lnTo>
                  <a:lnTo>
                    <a:pt x="118" y="1113"/>
                  </a:lnTo>
                  <a:lnTo>
                    <a:pt x="155" y="1092"/>
                  </a:lnTo>
                  <a:lnTo>
                    <a:pt x="171" y="1081"/>
                  </a:lnTo>
                  <a:lnTo>
                    <a:pt x="188" y="1070"/>
                  </a:lnTo>
                  <a:lnTo>
                    <a:pt x="223" y="1047"/>
                  </a:lnTo>
                  <a:lnTo>
                    <a:pt x="257" y="1022"/>
                  </a:lnTo>
                  <a:lnTo>
                    <a:pt x="294" y="995"/>
                  </a:lnTo>
                  <a:lnTo>
                    <a:pt x="331" y="967"/>
                  </a:lnTo>
                  <a:lnTo>
                    <a:pt x="369" y="937"/>
                  </a:lnTo>
                  <a:lnTo>
                    <a:pt x="448" y="874"/>
                  </a:lnTo>
                  <a:lnTo>
                    <a:pt x="530" y="807"/>
                  </a:lnTo>
                  <a:lnTo>
                    <a:pt x="618" y="736"/>
                  </a:lnTo>
                  <a:lnTo>
                    <a:pt x="663" y="700"/>
                  </a:lnTo>
                  <a:lnTo>
                    <a:pt x="710" y="664"/>
                  </a:lnTo>
                  <a:lnTo>
                    <a:pt x="757" y="626"/>
                  </a:lnTo>
                  <a:lnTo>
                    <a:pt x="806" y="590"/>
                  </a:lnTo>
                  <a:lnTo>
                    <a:pt x="857" y="553"/>
                  </a:lnTo>
                  <a:lnTo>
                    <a:pt x="907" y="516"/>
                  </a:lnTo>
                  <a:lnTo>
                    <a:pt x="960" y="479"/>
                  </a:lnTo>
                  <a:lnTo>
                    <a:pt x="1014" y="443"/>
                  </a:lnTo>
                  <a:lnTo>
                    <a:pt x="1069" y="408"/>
                  </a:lnTo>
                  <a:lnTo>
                    <a:pt x="1126" y="372"/>
                  </a:lnTo>
                  <a:lnTo>
                    <a:pt x="1154" y="355"/>
                  </a:lnTo>
                  <a:lnTo>
                    <a:pt x="1184" y="338"/>
                  </a:lnTo>
                  <a:lnTo>
                    <a:pt x="1243" y="305"/>
                  </a:lnTo>
                  <a:lnTo>
                    <a:pt x="1273" y="289"/>
                  </a:lnTo>
                  <a:lnTo>
                    <a:pt x="1304" y="273"/>
                  </a:lnTo>
                  <a:lnTo>
                    <a:pt x="1334" y="257"/>
                  </a:lnTo>
                  <a:lnTo>
                    <a:pt x="1365" y="241"/>
                  </a:lnTo>
                  <a:lnTo>
                    <a:pt x="1429" y="212"/>
                  </a:lnTo>
                  <a:lnTo>
                    <a:pt x="1462" y="197"/>
                  </a:lnTo>
                  <a:lnTo>
                    <a:pt x="1494" y="183"/>
                  </a:lnTo>
                  <a:lnTo>
                    <a:pt x="1528" y="169"/>
                  </a:lnTo>
                  <a:lnTo>
                    <a:pt x="1562" y="156"/>
                  </a:lnTo>
                  <a:lnTo>
                    <a:pt x="1595" y="144"/>
                  </a:lnTo>
                  <a:lnTo>
                    <a:pt x="1630" y="131"/>
                  </a:lnTo>
                  <a:lnTo>
                    <a:pt x="1664" y="119"/>
                  </a:lnTo>
                  <a:lnTo>
                    <a:pt x="1700" y="107"/>
                  </a:lnTo>
                  <a:lnTo>
                    <a:pt x="1735" y="96"/>
                  </a:lnTo>
                  <a:lnTo>
                    <a:pt x="1771" y="86"/>
                  </a:lnTo>
                  <a:lnTo>
                    <a:pt x="1810" y="76"/>
                  </a:lnTo>
                  <a:lnTo>
                    <a:pt x="1849" y="66"/>
                  </a:lnTo>
                  <a:lnTo>
                    <a:pt x="1888" y="56"/>
                  </a:lnTo>
                  <a:lnTo>
                    <a:pt x="1925" y="48"/>
                  </a:lnTo>
                  <a:lnTo>
                    <a:pt x="1964" y="40"/>
                  </a:lnTo>
                  <a:lnTo>
                    <a:pt x="2001" y="34"/>
                  </a:lnTo>
                  <a:lnTo>
                    <a:pt x="2038" y="28"/>
                  </a:lnTo>
                  <a:lnTo>
                    <a:pt x="2075" y="22"/>
                  </a:lnTo>
                  <a:lnTo>
                    <a:pt x="2111" y="18"/>
                  </a:lnTo>
                  <a:lnTo>
                    <a:pt x="2147" y="14"/>
                  </a:lnTo>
                  <a:lnTo>
                    <a:pt x="2183" y="11"/>
                  </a:lnTo>
                  <a:lnTo>
                    <a:pt x="2218" y="8"/>
                  </a:lnTo>
                  <a:lnTo>
                    <a:pt x="2253" y="6"/>
                  </a:lnTo>
                  <a:lnTo>
                    <a:pt x="2288" y="5"/>
                  </a:lnTo>
                  <a:lnTo>
                    <a:pt x="2321" y="4"/>
                  </a:lnTo>
                  <a:lnTo>
                    <a:pt x="2356" y="4"/>
                  </a:lnTo>
                  <a:lnTo>
                    <a:pt x="2398" y="4"/>
                  </a:lnTo>
                  <a:lnTo>
                    <a:pt x="2439" y="5"/>
                  </a:lnTo>
                  <a:lnTo>
                    <a:pt x="2481" y="7"/>
                  </a:lnTo>
                  <a:lnTo>
                    <a:pt x="2522" y="10"/>
                  </a:lnTo>
                  <a:lnTo>
                    <a:pt x="2561" y="14"/>
                  </a:lnTo>
                  <a:lnTo>
                    <a:pt x="2601" y="18"/>
                  </a:lnTo>
                  <a:lnTo>
                    <a:pt x="2639" y="23"/>
                  </a:lnTo>
                  <a:lnTo>
                    <a:pt x="2678" y="28"/>
                  </a:lnTo>
                  <a:lnTo>
                    <a:pt x="2716" y="34"/>
                  </a:lnTo>
                  <a:lnTo>
                    <a:pt x="2752" y="40"/>
                  </a:lnTo>
                  <a:lnTo>
                    <a:pt x="2789" y="47"/>
                  </a:lnTo>
                  <a:lnTo>
                    <a:pt x="2824" y="55"/>
                  </a:lnTo>
                  <a:lnTo>
                    <a:pt x="2860" y="63"/>
                  </a:lnTo>
                  <a:lnTo>
                    <a:pt x="2894" y="72"/>
                  </a:lnTo>
                  <a:lnTo>
                    <a:pt x="2928" y="80"/>
                  </a:lnTo>
                  <a:lnTo>
                    <a:pt x="2961" y="89"/>
                  </a:lnTo>
                  <a:lnTo>
                    <a:pt x="2994" y="98"/>
                  </a:lnTo>
                  <a:lnTo>
                    <a:pt x="3026" y="107"/>
                  </a:lnTo>
                  <a:lnTo>
                    <a:pt x="3088" y="126"/>
                  </a:lnTo>
                  <a:lnTo>
                    <a:pt x="3148" y="147"/>
                  </a:lnTo>
                  <a:lnTo>
                    <a:pt x="3206" y="166"/>
                  </a:lnTo>
                  <a:lnTo>
                    <a:pt x="3261" y="185"/>
                  </a:lnTo>
                  <a:lnTo>
                    <a:pt x="3314" y="205"/>
                  </a:lnTo>
                  <a:lnTo>
                    <a:pt x="3411" y="240"/>
                  </a:lnTo>
                  <a:lnTo>
                    <a:pt x="3516" y="277"/>
                  </a:lnTo>
                  <a:lnTo>
                    <a:pt x="3569" y="295"/>
                  </a:lnTo>
                  <a:lnTo>
                    <a:pt x="3621" y="312"/>
                  </a:lnTo>
                  <a:lnTo>
                    <a:pt x="3674" y="330"/>
                  </a:lnTo>
                  <a:lnTo>
                    <a:pt x="3700" y="338"/>
                  </a:lnTo>
                  <a:lnTo>
                    <a:pt x="3726" y="345"/>
                  </a:lnTo>
                  <a:lnTo>
                    <a:pt x="3780" y="360"/>
                  </a:lnTo>
                  <a:lnTo>
                    <a:pt x="3808" y="367"/>
                  </a:lnTo>
                  <a:lnTo>
                    <a:pt x="3834" y="374"/>
                  </a:lnTo>
                  <a:lnTo>
                    <a:pt x="3863" y="381"/>
                  </a:lnTo>
                  <a:lnTo>
                    <a:pt x="3890" y="388"/>
                  </a:lnTo>
                  <a:lnTo>
                    <a:pt x="3918" y="394"/>
                  </a:lnTo>
                  <a:lnTo>
                    <a:pt x="3947" y="399"/>
                  </a:lnTo>
                  <a:lnTo>
                    <a:pt x="3975" y="404"/>
                  </a:lnTo>
                  <a:lnTo>
                    <a:pt x="4005" y="409"/>
                  </a:lnTo>
                  <a:lnTo>
                    <a:pt x="4034" y="414"/>
                  </a:lnTo>
                  <a:lnTo>
                    <a:pt x="4064" y="418"/>
                  </a:lnTo>
                  <a:lnTo>
                    <a:pt x="4094" y="421"/>
                  </a:lnTo>
                  <a:lnTo>
                    <a:pt x="4125" y="424"/>
                  </a:lnTo>
                  <a:lnTo>
                    <a:pt x="4156" y="427"/>
                  </a:lnTo>
                  <a:lnTo>
                    <a:pt x="4189" y="429"/>
                  </a:lnTo>
                  <a:lnTo>
                    <a:pt x="4221" y="431"/>
                  </a:lnTo>
                  <a:lnTo>
                    <a:pt x="4254" y="432"/>
                  </a:lnTo>
                  <a:lnTo>
                    <a:pt x="4287" y="433"/>
                  </a:lnTo>
                  <a:lnTo>
                    <a:pt x="4322" y="433"/>
                  </a:lnTo>
                  <a:lnTo>
                    <a:pt x="4382" y="433"/>
                  </a:lnTo>
                  <a:lnTo>
                    <a:pt x="4413" y="432"/>
                  </a:lnTo>
                  <a:lnTo>
                    <a:pt x="4445" y="430"/>
                  </a:lnTo>
                  <a:lnTo>
                    <a:pt x="4476" y="428"/>
                  </a:lnTo>
                  <a:lnTo>
                    <a:pt x="4510" y="426"/>
                  </a:lnTo>
                  <a:lnTo>
                    <a:pt x="4542" y="423"/>
                  </a:lnTo>
                  <a:lnTo>
                    <a:pt x="4577" y="420"/>
                  </a:lnTo>
                  <a:lnTo>
                    <a:pt x="4595" y="417"/>
                  </a:lnTo>
                  <a:lnTo>
                    <a:pt x="4613" y="415"/>
                  </a:lnTo>
                  <a:lnTo>
                    <a:pt x="4633" y="412"/>
                  </a:lnTo>
                  <a:lnTo>
                    <a:pt x="4651" y="408"/>
                  </a:lnTo>
                  <a:lnTo>
                    <a:pt x="4688" y="400"/>
                  </a:lnTo>
                  <a:lnTo>
                    <a:pt x="4727" y="390"/>
                  </a:lnTo>
                  <a:lnTo>
                    <a:pt x="4766" y="378"/>
                  </a:lnTo>
                  <a:lnTo>
                    <a:pt x="4804" y="366"/>
                  </a:lnTo>
                  <a:lnTo>
                    <a:pt x="4824" y="359"/>
                  </a:lnTo>
                  <a:lnTo>
                    <a:pt x="4842" y="352"/>
                  </a:lnTo>
                  <a:lnTo>
                    <a:pt x="4880" y="337"/>
                  </a:lnTo>
                  <a:lnTo>
                    <a:pt x="4918" y="322"/>
                  </a:lnTo>
                  <a:lnTo>
                    <a:pt x="4956" y="304"/>
                  </a:lnTo>
                  <a:lnTo>
                    <a:pt x="4993" y="287"/>
                  </a:lnTo>
                  <a:lnTo>
                    <a:pt x="5030" y="270"/>
                  </a:lnTo>
                  <a:lnTo>
                    <a:pt x="5065" y="251"/>
                  </a:lnTo>
                  <a:lnTo>
                    <a:pt x="5100" y="232"/>
                  </a:lnTo>
                  <a:lnTo>
                    <a:pt x="5134" y="214"/>
                  </a:lnTo>
                  <a:lnTo>
                    <a:pt x="5167" y="196"/>
                  </a:lnTo>
                  <a:lnTo>
                    <a:pt x="5199" y="177"/>
                  </a:lnTo>
                  <a:lnTo>
                    <a:pt x="5230" y="159"/>
                  </a:lnTo>
                  <a:lnTo>
                    <a:pt x="5258" y="141"/>
                  </a:lnTo>
                  <a:lnTo>
                    <a:pt x="5287" y="123"/>
                  </a:lnTo>
                  <a:lnTo>
                    <a:pt x="5338" y="90"/>
                  </a:lnTo>
                  <a:lnTo>
                    <a:pt x="5381" y="61"/>
                  </a:lnTo>
                  <a:lnTo>
                    <a:pt x="5417" y="36"/>
                  </a:lnTo>
                  <a:lnTo>
                    <a:pt x="5443" y="18"/>
                  </a:lnTo>
                  <a:lnTo>
                    <a:pt x="5466" y="0"/>
                  </a:lnTo>
                  <a:lnTo>
                    <a:pt x="5443" y="19"/>
                  </a:lnTo>
                  <a:lnTo>
                    <a:pt x="5417" y="41"/>
                  </a:lnTo>
                  <a:lnTo>
                    <a:pt x="5380" y="69"/>
                  </a:lnTo>
                  <a:lnTo>
                    <a:pt x="5334" y="102"/>
                  </a:lnTo>
                  <a:lnTo>
                    <a:pt x="5307" y="119"/>
                  </a:lnTo>
                  <a:lnTo>
                    <a:pt x="5280" y="139"/>
                  </a:lnTo>
                  <a:lnTo>
                    <a:pt x="5249" y="159"/>
                  </a:lnTo>
                  <a:lnTo>
                    <a:pt x="5217" y="179"/>
                  </a:lnTo>
                  <a:lnTo>
                    <a:pt x="5182" y="200"/>
                  </a:lnTo>
                  <a:lnTo>
                    <a:pt x="5147" y="221"/>
                  </a:lnTo>
                  <a:lnTo>
                    <a:pt x="5109" y="242"/>
                  </a:lnTo>
                  <a:lnTo>
                    <a:pt x="5069" y="263"/>
                  </a:lnTo>
                  <a:lnTo>
                    <a:pt x="5029" y="284"/>
                  </a:lnTo>
                  <a:lnTo>
                    <a:pt x="4987" y="304"/>
                  </a:lnTo>
                  <a:lnTo>
                    <a:pt x="4965" y="314"/>
                  </a:lnTo>
                  <a:lnTo>
                    <a:pt x="4943" y="325"/>
                  </a:lnTo>
                  <a:lnTo>
                    <a:pt x="4898" y="344"/>
                  </a:lnTo>
                  <a:lnTo>
                    <a:pt x="4852" y="363"/>
                  </a:lnTo>
                  <a:lnTo>
                    <a:pt x="4804" y="380"/>
                  </a:lnTo>
                  <a:lnTo>
                    <a:pt x="4781" y="390"/>
                  </a:lnTo>
                  <a:lnTo>
                    <a:pt x="4757" y="398"/>
                  </a:lnTo>
                  <a:lnTo>
                    <a:pt x="4707" y="413"/>
                  </a:lnTo>
                  <a:lnTo>
                    <a:pt x="4681" y="420"/>
                  </a:lnTo>
                  <a:lnTo>
                    <a:pt x="4656" y="427"/>
                  </a:lnTo>
                  <a:lnTo>
                    <a:pt x="4631" y="433"/>
                  </a:lnTo>
                  <a:lnTo>
                    <a:pt x="4604" y="439"/>
                  </a:lnTo>
                  <a:lnTo>
                    <a:pt x="4579" y="445"/>
                  </a:lnTo>
                  <a:lnTo>
                    <a:pt x="4552" y="451"/>
                  </a:lnTo>
                  <a:lnTo>
                    <a:pt x="4526" y="455"/>
                  </a:lnTo>
                  <a:lnTo>
                    <a:pt x="4500" y="460"/>
                  </a:lnTo>
                  <a:lnTo>
                    <a:pt x="4473" y="463"/>
                  </a:lnTo>
                  <a:lnTo>
                    <a:pt x="4446" y="466"/>
                  </a:lnTo>
                  <a:lnTo>
                    <a:pt x="4418" y="469"/>
                  </a:lnTo>
                  <a:lnTo>
                    <a:pt x="4392" y="471"/>
                  </a:lnTo>
                  <a:lnTo>
                    <a:pt x="4349" y="474"/>
                  </a:lnTo>
                  <a:lnTo>
                    <a:pt x="4309" y="476"/>
                  </a:lnTo>
                  <a:lnTo>
                    <a:pt x="4269" y="477"/>
                  </a:lnTo>
                  <a:lnTo>
                    <a:pt x="4232" y="477"/>
                  </a:lnTo>
                  <a:lnTo>
                    <a:pt x="4185" y="477"/>
                  </a:lnTo>
                  <a:lnTo>
                    <a:pt x="4139" y="475"/>
                  </a:lnTo>
                  <a:lnTo>
                    <a:pt x="4095" y="472"/>
                  </a:lnTo>
                  <a:lnTo>
                    <a:pt x="4053" y="468"/>
                  </a:lnTo>
                  <a:lnTo>
                    <a:pt x="4031" y="466"/>
                  </a:lnTo>
                  <a:lnTo>
                    <a:pt x="4011" y="463"/>
                  </a:lnTo>
                  <a:lnTo>
                    <a:pt x="3968" y="457"/>
                  </a:lnTo>
                  <a:lnTo>
                    <a:pt x="3926" y="451"/>
                  </a:lnTo>
                  <a:lnTo>
                    <a:pt x="3883" y="442"/>
                  </a:lnTo>
                  <a:lnTo>
                    <a:pt x="3838" y="434"/>
                  </a:lnTo>
                  <a:lnTo>
                    <a:pt x="3792" y="425"/>
                  </a:lnTo>
                  <a:lnTo>
                    <a:pt x="3693" y="405"/>
                  </a:lnTo>
                  <a:lnTo>
                    <a:pt x="3582" y="382"/>
                  </a:lnTo>
                  <a:lnTo>
                    <a:pt x="3521" y="371"/>
                  </a:lnTo>
                  <a:lnTo>
                    <a:pt x="3456" y="359"/>
                  </a:lnTo>
                  <a:lnTo>
                    <a:pt x="3354" y="340"/>
                  </a:lnTo>
                  <a:lnTo>
                    <a:pt x="3252" y="322"/>
                  </a:lnTo>
                  <a:lnTo>
                    <a:pt x="3151" y="304"/>
                  </a:lnTo>
                  <a:lnTo>
                    <a:pt x="3101" y="296"/>
                  </a:lnTo>
                  <a:lnTo>
                    <a:pt x="3051" y="288"/>
                  </a:lnTo>
                  <a:lnTo>
                    <a:pt x="3001" y="281"/>
                  </a:lnTo>
                  <a:lnTo>
                    <a:pt x="2951" y="275"/>
                  </a:lnTo>
                  <a:lnTo>
                    <a:pt x="2902" y="269"/>
                  </a:lnTo>
                  <a:lnTo>
                    <a:pt x="2852" y="265"/>
                  </a:lnTo>
                  <a:lnTo>
                    <a:pt x="2803" y="261"/>
                  </a:lnTo>
                  <a:lnTo>
                    <a:pt x="2754" y="258"/>
                  </a:lnTo>
                  <a:lnTo>
                    <a:pt x="2705" y="256"/>
                  </a:lnTo>
                  <a:lnTo>
                    <a:pt x="2681" y="256"/>
                  </a:lnTo>
                  <a:lnTo>
                    <a:pt x="2658" y="256"/>
                  </a:lnTo>
                  <a:lnTo>
                    <a:pt x="2608" y="256"/>
                  </a:lnTo>
                  <a:lnTo>
                    <a:pt x="2559" y="258"/>
                  </a:lnTo>
                  <a:lnTo>
                    <a:pt x="2536" y="260"/>
                  </a:lnTo>
                  <a:lnTo>
                    <a:pt x="2511" y="262"/>
                  </a:lnTo>
                  <a:lnTo>
                    <a:pt x="2464" y="267"/>
                  </a:lnTo>
                  <a:lnTo>
                    <a:pt x="2439" y="270"/>
                  </a:lnTo>
                  <a:lnTo>
                    <a:pt x="2416" y="274"/>
                  </a:lnTo>
                  <a:lnTo>
                    <a:pt x="2393" y="278"/>
                  </a:lnTo>
                  <a:lnTo>
                    <a:pt x="2368" y="282"/>
                  </a:lnTo>
                  <a:lnTo>
                    <a:pt x="2346" y="287"/>
                  </a:lnTo>
                  <a:lnTo>
                    <a:pt x="2322" y="293"/>
                  </a:lnTo>
                  <a:lnTo>
                    <a:pt x="2299" y="299"/>
                  </a:lnTo>
                  <a:lnTo>
                    <a:pt x="2276" y="305"/>
                  </a:lnTo>
                  <a:lnTo>
                    <a:pt x="2239" y="317"/>
                  </a:lnTo>
                  <a:lnTo>
                    <a:pt x="2204" y="329"/>
                  </a:lnTo>
                  <a:lnTo>
                    <a:pt x="2169" y="341"/>
                  </a:lnTo>
                  <a:lnTo>
                    <a:pt x="2136" y="354"/>
                  </a:lnTo>
                  <a:lnTo>
                    <a:pt x="2102" y="367"/>
                  </a:lnTo>
                  <a:lnTo>
                    <a:pt x="2071" y="380"/>
                  </a:lnTo>
                  <a:lnTo>
                    <a:pt x="2039" y="395"/>
                  </a:lnTo>
                  <a:lnTo>
                    <a:pt x="2010" y="409"/>
                  </a:lnTo>
                  <a:lnTo>
                    <a:pt x="1980" y="424"/>
                  </a:lnTo>
                  <a:lnTo>
                    <a:pt x="1951" y="439"/>
                  </a:lnTo>
                  <a:lnTo>
                    <a:pt x="1922" y="455"/>
                  </a:lnTo>
                  <a:lnTo>
                    <a:pt x="1895" y="471"/>
                  </a:lnTo>
                  <a:lnTo>
                    <a:pt x="1841" y="504"/>
                  </a:lnTo>
                  <a:lnTo>
                    <a:pt x="1815" y="522"/>
                  </a:lnTo>
                  <a:lnTo>
                    <a:pt x="1802" y="530"/>
                  </a:lnTo>
                  <a:lnTo>
                    <a:pt x="1789" y="539"/>
                  </a:lnTo>
                  <a:lnTo>
                    <a:pt x="1764" y="556"/>
                  </a:lnTo>
                  <a:lnTo>
                    <a:pt x="1738" y="575"/>
                  </a:lnTo>
                  <a:lnTo>
                    <a:pt x="1714" y="593"/>
                  </a:lnTo>
                  <a:lnTo>
                    <a:pt x="1690" y="611"/>
                  </a:lnTo>
                  <a:lnTo>
                    <a:pt x="1664" y="630"/>
                  </a:lnTo>
                  <a:lnTo>
                    <a:pt x="1640" y="650"/>
                  </a:lnTo>
                  <a:lnTo>
                    <a:pt x="1592" y="688"/>
                  </a:lnTo>
                  <a:lnTo>
                    <a:pt x="1543" y="729"/>
                  </a:lnTo>
                  <a:lnTo>
                    <a:pt x="1493" y="770"/>
                  </a:lnTo>
                  <a:lnTo>
                    <a:pt x="1392" y="854"/>
                  </a:lnTo>
                  <a:lnTo>
                    <a:pt x="1309" y="923"/>
                  </a:lnTo>
                  <a:lnTo>
                    <a:pt x="1212" y="1001"/>
                  </a:lnTo>
                  <a:lnTo>
                    <a:pt x="1187" y="1023"/>
                  </a:lnTo>
                  <a:lnTo>
                    <a:pt x="1159" y="1044"/>
                  </a:lnTo>
                  <a:lnTo>
                    <a:pt x="1132" y="1065"/>
                  </a:lnTo>
                  <a:lnTo>
                    <a:pt x="1103" y="1088"/>
                  </a:lnTo>
                  <a:lnTo>
                    <a:pt x="1044" y="1132"/>
                  </a:lnTo>
                  <a:lnTo>
                    <a:pt x="1014" y="1156"/>
                  </a:lnTo>
                  <a:lnTo>
                    <a:pt x="982" y="1178"/>
                  </a:lnTo>
                  <a:close/>
                </a:path>
              </a:pathLst>
            </a:custGeom>
            <a:gradFill rotWithShape="0">
              <a:gsLst>
                <a:gs pos="0">
                  <a:srgbClr val="f8dc1a"/>
                </a:gs>
                <a:gs pos="100000">
                  <a:srgbClr val="f4c6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pic>
        <p:nvPicPr>
          <p:cNvPr id="48" name="Picture 28" descr="logo_rgb"/>
          <p:cNvPicPr/>
          <p:nvPr/>
        </p:nvPicPr>
        <p:blipFill>
          <a:blip r:embed="rId2"/>
          <a:stretch/>
        </p:blipFill>
        <p:spPr>
          <a:xfrm>
            <a:off x="6588000" y="6524640"/>
            <a:ext cx="2230560" cy="21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1074600" indent="-26820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1346040" indent="-269640">
              <a:spcAft>
                <a:spcPts val="601"/>
              </a:spcAft>
              <a:buClr>
                <a:srgbClr val="009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692000" y="3789360"/>
            <a:ext cx="15843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Times New Roman"/>
              </a:rPr>
              <a:t>Etunimi Sukun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3348000" y="3789360"/>
            <a:ext cx="1440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C5DC-5C72-4722-8FD6-8AD98B93AC2A}" type="datetime">
              <a:rPr b="0" lang="fi-FI" sz="1000" spc="-1" strike="noStrike">
                <a:solidFill>
                  <a:srgbClr val="616365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5688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365"/>
                </a:solidFill>
                <a:latin typeface="Arial"/>
              </a:rPr>
              <a:t>Ympäristöterveydenhuolto</a:t>
            </a:r>
            <a:endParaRPr b="1" lang="en-US" sz="3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92360" y="2707920"/>
            <a:ext cx="4535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6365"/>
                </a:solidFill>
                <a:latin typeface="Arial"/>
              </a:rPr>
              <a:t>Kokonaisarkkitehtuurin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6365"/>
                </a:solidFill>
                <a:latin typeface="Arial"/>
              </a:rPr>
              <a:t>hallintamalli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" name="Alatunnisteen paikkamerkki 3"/>
          <p:cNvSpPr/>
          <p:nvPr/>
        </p:nvSpPr>
        <p:spPr>
          <a:xfrm>
            <a:off x="1692360" y="3789360"/>
            <a:ext cx="158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Arial"/>
              </a:rPr>
              <a:t>Tiina Pesonen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2" name="Päivämäärän paikkamerkki 4"/>
          <p:cNvSpPr/>
          <p:nvPr/>
        </p:nvSpPr>
        <p:spPr>
          <a:xfrm>
            <a:off x="3348000" y="3789360"/>
            <a:ext cx="144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53FC-E09C-4166-B7E8-6770CCC5BB67}" type="datetime">
              <a:rPr b="0" lang="fi-FI" sz="10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perusrakenn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7740720" cy="517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92360" y="1916280"/>
            <a:ext cx="6696000" cy="93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ydinviesti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avoitteena on tehokas ja vaikuttava TOIMIN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ätä tukemaan tarvitaan 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TIETO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ämän organisoimiseen tarvitaan</a:t>
            </a:r>
            <a:br>
              <a:rPr sz="2400"/>
            </a:b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   TIETOJÄRJESTELMIÄ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Näiden toteuttamiseen tarvitaan TEKNOLOGIOI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191628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4292640"/>
            <a:ext cx="936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99736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n lisäksi, että tarkastelemme nykyisiä toimintaprosesseja ja tietojärjestelmiä, meidän on välttämättä tarkasteltava myös sitä tulevaisuuden toimintaa, jonka haluamme tehdä mahdolliseksi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KA-projektin vaiheet (JHS179) ja tilanne YTH:n osalta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kehittäminen (kuvaukset)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hittämiskohteiden tunnistam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Esiselvit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atimusmäärittely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Hankin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mpäristöterveyden alalla olemme jo pitkällä kehittämiskohteiden tunnistamisessa, koska toiminnan ja tiedon suhdetta on THL/YMTOssa tutkittu 6 vuot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ilanne ympäristöterveydenhuollossa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HL/YMTO on ympäristöterveyden alalla tutkinu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tiedon ja toiminnan yhteyttä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emista ja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aikutusarviointien kehittämistä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hittämiskohteet on jo tunnistettu muuta kautta kuin kokonaisarkkitehtuurin nykytilan kartoituksella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State of the art of benefit-risk assessment: Environmental health (Pohjola et al., Food and Chemical Toxicology 2012)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ehittämiskohteet (Pohjola et al., 2012)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Painetta ja pyrkimystä on kehittää vaikutusarviointej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sallistavammiksi ja avoimemm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Laajemmin eri näkökulmia huomioonottav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Arvioinnin ja päätöksenteon yhteyttä parantav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Monenlaisia arvoja ja tietoa paremmin huomioonottaviksi ja yhdistävi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mpäristöterveydenhuolto on mitä suurimmassa määrin vaikutusten arviointia ja huomiointia päätöksente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tulisi tukea näitä kehityssuunti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Megatrendejä, jotka vaikuttavat kokonaisarkkitehtuurii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Avoin data ja avoimuu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Kritisoitavuus ja osallistum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Jatkokäytettävy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Avoin data ja avoimuus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Vaatimus tiedon avoimuudesta on radikaalisti lisääntynyt 1-3 vuoden aikana ja on tullut jäädäkseen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Vaikka kaikki tieto ei tietenkään voi olla avointa, merkittävä osa voi oll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100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Tietojärjestelmien ja käytäntöjen on siis pystyttävä vastaamaan avoimuuden vaatimukseen perinteisten eheyden ja suojattavuuden lisä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ritisoitavuus ja osallistumine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Asiantuntijuuden roolissa on tapahtunut iso muutos: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Asiantuntijuuden erityisasema on heike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ansalaisten oma koulutustaso ja luottamus omiin tietoihin on lisää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atimus osallistumismahdollisuuksista on lisää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Jos jokin menee pieleen, suurin kritiikki tulee siitä että on pimitetty tietoa tai estetty osallistumista tai ettei kuunnell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n tehtävä mahdolliseksi se, että tarvittaessa asiantuntijatyötä ja sen perustana olevaa tietoa pääsee kritisoimaan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äytäntöjen ja tietojärjestelmien on tuettava tätä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Jatkokäytettävyys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Asiantuntemustiedon jäsentäminen sidosryhmittäin on vaikeaa, koska käyttökohteita on paljon, eivätkä ne kaikki ole asiantuntijaorganisaation tied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Järjestelmät on rakennettava siten, että tiedosta saadaan lisähyötyä mahdollistamalla sen käyttö ennakoimattomiin tarkoituksii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STM:n toimialan KA-hallintamalli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27640" y="-1251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" name="Päivämäärän paikkamerkki 5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32000" y="1557360"/>
            <a:ext cx="3740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" name="Pyöristetty suorakulmio 6"/>
          <p:cNvSpPr/>
          <p:nvPr/>
        </p:nvSpPr>
        <p:spPr>
          <a:xfrm>
            <a:off x="3747960" y="1214280"/>
            <a:ext cx="1214640" cy="500400"/>
          </a:xfrm>
          <a:prstGeom prst="roundRect">
            <a:avLst>
              <a:gd name="adj" fmla="val 16667"/>
            </a:avLst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slia-päällikk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" name="Ellipsi 7"/>
          <p:cNvSpPr/>
          <p:nvPr/>
        </p:nvSpPr>
        <p:spPr>
          <a:xfrm>
            <a:off x="857160" y="2286000"/>
            <a:ext cx="2000520" cy="78588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erni-johtoryh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" name="Ellipsi 8"/>
          <p:cNvSpPr/>
          <p:nvPr/>
        </p:nvSpPr>
        <p:spPr>
          <a:xfrm>
            <a:off x="5076720" y="1413000"/>
            <a:ext cx="1785960" cy="78552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TM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" name="Ellipsi 11"/>
          <p:cNvSpPr/>
          <p:nvPr/>
        </p:nvSpPr>
        <p:spPr>
          <a:xfrm>
            <a:off x="208080" y="3929040"/>
            <a:ext cx="150660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THL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" name="Ellipsi 12"/>
          <p:cNvSpPr/>
          <p:nvPr/>
        </p:nvSpPr>
        <p:spPr>
          <a:xfrm>
            <a:off x="1000080" y="3929040"/>
            <a:ext cx="150660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TTL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" name="Ellipsi 13"/>
          <p:cNvSpPr/>
          <p:nvPr/>
        </p:nvSpPr>
        <p:spPr>
          <a:xfrm>
            <a:off x="1908000" y="3933720"/>
            <a:ext cx="150516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Valvira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" name="Ellipsi 14"/>
          <p:cNvSpPr/>
          <p:nvPr/>
        </p:nvSpPr>
        <p:spPr>
          <a:xfrm>
            <a:off x="2987640" y="4005360"/>
            <a:ext cx="85716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ne …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104" name="Ellipsi 18"/>
          <p:cNvGrpSpPr/>
          <p:nvPr/>
        </p:nvGrpSpPr>
        <p:grpSpPr>
          <a:xfrm>
            <a:off x="3267000" y="2266920"/>
            <a:ext cx="2536920" cy="824040"/>
            <a:chOff x="3267000" y="2266920"/>
            <a:chExt cx="2536920" cy="824040"/>
          </a:xfrm>
        </p:grpSpPr>
        <p:pic>
          <p:nvPicPr>
            <p:cNvPr id="105" name="Ellipsi 18" descr=""/>
            <p:cNvPicPr/>
            <p:nvPr/>
          </p:nvPicPr>
          <p:blipFill>
            <a:blip r:embed="rId1"/>
            <a:stretch/>
          </p:blipFill>
          <p:spPr>
            <a:xfrm>
              <a:off x="3267000" y="2266920"/>
              <a:ext cx="2536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52920" y="2400480"/>
              <a:ext cx="17668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KA koordi- nointiryhmä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107" name="Suora yhdysviiva 20"/>
          <p:cNvSpPr/>
          <p:nvPr/>
        </p:nvSpPr>
        <p:spPr>
          <a:xfrm flipH="1">
            <a:off x="2356920" y="1713960"/>
            <a:ext cx="1357560" cy="5713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" name="Suora yhdysviiva 22"/>
          <p:cNvSpPr/>
          <p:nvPr/>
        </p:nvSpPr>
        <p:spPr>
          <a:xfrm>
            <a:off x="4962600" y="1465200"/>
            <a:ext cx="1038240" cy="3207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" name="Ellipsi 23"/>
          <p:cNvSpPr/>
          <p:nvPr/>
        </p:nvSpPr>
        <p:spPr>
          <a:xfrm>
            <a:off x="71280" y="5214960"/>
            <a:ext cx="107172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" name="Ellipsi 24"/>
          <p:cNvSpPr/>
          <p:nvPr/>
        </p:nvSpPr>
        <p:spPr>
          <a:xfrm>
            <a:off x="1285920" y="5214960"/>
            <a:ext cx="114300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" name="Suora yhdysviiva 26"/>
          <p:cNvSpPr/>
          <p:nvPr/>
        </p:nvSpPr>
        <p:spPr>
          <a:xfrm>
            <a:off x="4357800" y="1785960"/>
            <a:ext cx="0" cy="5713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" name="Suora yhdysviiva 28"/>
          <p:cNvSpPr/>
          <p:nvPr/>
        </p:nvSpPr>
        <p:spPr>
          <a:xfrm>
            <a:off x="2857680" y="2679840"/>
            <a:ext cx="3571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" name="Suora yhdysviiva 32"/>
          <p:cNvSpPr/>
          <p:nvPr/>
        </p:nvSpPr>
        <p:spPr>
          <a:xfrm flipH="1">
            <a:off x="571680" y="2999520"/>
            <a:ext cx="3286080" cy="23720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" name="Suora yhdysviiva 34"/>
          <p:cNvSpPr/>
          <p:nvPr/>
        </p:nvSpPr>
        <p:spPr>
          <a:xfrm flipH="1">
            <a:off x="1856880" y="3142440"/>
            <a:ext cx="2428920" cy="21430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" name="Suora yhdysviiva 42"/>
          <p:cNvSpPr/>
          <p:nvPr/>
        </p:nvSpPr>
        <p:spPr>
          <a:xfrm>
            <a:off x="570960" y="4557600"/>
            <a:ext cx="34920" cy="7858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" name="Suora yhdysviiva 44"/>
          <p:cNvSpPr/>
          <p:nvPr/>
        </p:nvSpPr>
        <p:spPr>
          <a:xfrm>
            <a:off x="1752480" y="4714920"/>
            <a:ext cx="176400" cy="6429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" name="Suora yhdysviiva 46"/>
          <p:cNvSpPr/>
          <p:nvPr/>
        </p:nvSpPr>
        <p:spPr>
          <a:xfrm flipH="1">
            <a:off x="960480" y="3071880"/>
            <a:ext cx="682560" cy="857160"/>
          </a:xfrm>
          <a:prstGeom prst="line">
            <a:avLst/>
          </a:prstGeom>
          <a:ln w="9360">
            <a:solidFill>
              <a:srgbClr val="e98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" name="Suora yhdysviiva 48"/>
          <p:cNvSpPr/>
          <p:nvPr/>
        </p:nvSpPr>
        <p:spPr>
          <a:xfrm flipH="1">
            <a:off x="1752120" y="3071880"/>
            <a:ext cx="104760" cy="857160"/>
          </a:xfrm>
          <a:prstGeom prst="line">
            <a:avLst/>
          </a:prstGeom>
          <a:ln w="9360">
            <a:solidFill>
              <a:srgbClr val="f0a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" name="Suora yhdysviiva 50"/>
          <p:cNvSpPr/>
          <p:nvPr/>
        </p:nvSpPr>
        <p:spPr>
          <a:xfrm>
            <a:off x="2265480" y="3076560"/>
            <a:ext cx="395280" cy="857160"/>
          </a:xfrm>
          <a:prstGeom prst="line">
            <a:avLst/>
          </a:prstGeom>
          <a:ln w="9360">
            <a:solidFill>
              <a:srgbClr val="f0a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" name="Suora yhdysviiva 52"/>
          <p:cNvSpPr/>
          <p:nvPr/>
        </p:nvSpPr>
        <p:spPr>
          <a:xfrm>
            <a:off x="500040" y="3714840"/>
            <a:ext cx="7929720" cy="0"/>
          </a:xfrm>
          <a:prstGeom prst="line">
            <a:avLst/>
          </a:prstGeom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" name="Ellipsi 36"/>
          <p:cNvSpPr/>
          <p:nvPr/>
        </p:nvSpPr>
        <p:spPr>
          <a:xfrm>
            <a:off x="5651640" y="4221000"/>
            <a:ext cx="1965240" cy="1013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Ta,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Sa, Sad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" name="Suora yhdysviiva 54"/>
          <p:cNvSpPr/>
          <p:nvPr/>
        </p:nvSpPr>
        <p:spPr>
          <a:xfrm flipV="1">
            <a:off x="4505400" y="2084040"/>
            <a:ext cx="833400" cy="3999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" name="Tekstikehys 61"/>
          <p:cNvSpPr/>
          <p:nvPr/>
        </p:nvSpPr>
        <p:spPr>
          <a:xfrm>
            <a:off x="6453360" y="5661000"/>
            <a:ext cx="14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16365"/>
                </a:solidFill>
                <a:latin typeface="Arial"/>
              </a:rPr>
              <a:t>KANSALLINEN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16365"/>
                </a:solidFill>
                <a:latin typeface="Arial"/>
              </a:rPr>
              <a:t>TASOt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" name="Tekstikehys 64"/>
          <p:cNvSpPr/>
          <p:nvPr/>
        </p:nvSpPr>
        <p:spPr>
          <a:xfrm>
            <a:off x="2421000" y="587700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HALLINNONAL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" name="Tekstikehys 66"/>
          <p:cNvSpPr/>
          <p:nvPr/>
        </p:nvSpPr>
        <p:spPr>
          <a:xfrm>
            <a:off x="431280" y="2500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" name="Tekstikehys 67"/>
          <p:cNvSpPr/>
          <p:nvPr/>
        </p:nvSpPr>
        <p:spPr>
          <a:xfrm>
            <a:off x="7861320" y="16430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 + tulos-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7" name="Tekstikehys 68"/>
          <p:cNvSpPr/>
          <p:nvPr/>
        </p:nvSpPr>
        <p:spPr>
          <a:xfrm>
            <a:off x="3360240" y="121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8" name="Tekstikehys 69"/>
          <p:cNvSpPr/>
          <p:nvPr/>
        </p:nvSpPr>
        <p:spPr>
          <a:xfrm>
            <a:off x="3788640" y="2000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9" name="Tekstikehys 70"/>
          <p:cNvSpPr/>
          <p:nvPr/>
        </p:nvSpPr>
        <p:spPr>
          <a:xfrm>
            <a:off x="326520" y="155736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P=päätöksentek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V= valmistelu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0" name="Ellipsi 49"/>
          <p:cNvSpPr/>
          <p:nvPr/>
        </p:nvSpPr>
        <p:spPr>
          <a:xfrm>
            <a:off x="7539120" y="4216320"/>
            <a:ext cx="1604880" cy="1013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aus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US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SH-piirit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1" name="Tekstikehys 61"/>
          <p:cNvSpPr/>
          <p:nvPr/>
        </p:nvSpPr>
        <p:spPr>
          <a:xfrm>
            <a:off x="7985520" y="57326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LUETAS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2" name="Ellipsi 57"/>
          <p:cNvSpPr/>
          <p:nvPr/>
        </p:nvSpPr>
        <p:spPr>
          <a:xfrm>
            <a:off x="6516720" y="2560680"/>
            <a:ext cx="1871640" cy="101268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s-Alu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oordinoin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3" name="Suora yhdysviiva 60"/>
          <p:cNvSpPr/>
          <p:nvPr/>
        </p:nvSpPr>
        <p:spPr>
          <a:xfrm flipV="1">
            <a:off x="6634080" y="3716280"/>
            <a:ext cx="673200" cy="5047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4" name="Suora yhdysviiva 62"/>
          <p:cNvSpPr/>
          <p:nvPr/>
        </p:nvSpPr>
        <p:spPr>
          <a:xfrm flipH="1" flipV="1">
            <a:off x="7956360" y="3499920"/>
            <a:ext cx="215640" cy="576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5" name="Suora yhdysviiva 64"/>
          <p:cNvSpPr/>
          <p:nvPr/>
        </p:nvSpPr>
        <p:spPr>
          <a:xfrm flipH="1" flipV="1">
            <a:off x="5785920" y="2679840"/>
            <a:ext cx="801720" cy="1728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6" name="Ellipsi 51"/>
          <p:cNvSpPr/>
          <p:nvPr/>
        </p:nvSpPr>
        <p:spPr>
          <a:xfrm>
            <a:off x="3780000" y="4292640"/>
            <a:ext cx="1873080" cy="934920"/>
          </a:xfrm>
          <a:prstGeom prst="ellipse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Työsuojelu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Sos.vak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Ympäristöterv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7" name="Tekstikehys 64"/>
          <p:cNvSpPr/>
          <p:nvPr/>
        </p:nvSpPr>
        <p:spPr>
          <a:xfrm>
            <a:off x="4933440" y="56610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KA osa-alueet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8" name="Suora yhdysviiva 58"/>
          <p:cNvSpPr/>
          <p:nvPr/>
        </p:nvSpPr>
        <p:spPr>
          <a:xfrm flipH="1" flipV="1">
            <a:off x="4429080" y="2995200"/>
            <a:ext cx="287280" cy="12970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9" name="Ellipsi 55"/>
          <p:cNvSpPr/>
          <p:nvPr/>
        </p:nvSpPr>
        <p:spPr>
          <a:xfrm>
            <a:off x="7236000" y="765000"/>
            <a:ext cx="1439640" cy="792360"/>
          </a:xfrm>
          <a:prstGeom prst="ellipse">
            <a:avLst/>
          </a:prstGeom>
          <a:solidFill>
            <a:srgbClr val="f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0" name="Suora yhdysviiva 59"/>
          <p:cNvSpPr/>
          <p:nvPr/>
        </p:nvSpPr>
        <p:spPr>
          <a:xfrm flipV="1">
            <a:off x="5724360" y="1557360"/>
            <a:ext cx="1943280" cy="10080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1" name="Ellipsi 53"/>
          <p:cNvSpPr/>
          <p:nvPr/>
        </p:nvSpPr>
        <p:spPr>
          <a:xfrm>
            <a:off x="3635280" y="3933720"/>
            <a:ext cx="2232000" cy="17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616365"/>
                </a:solidFill>
                <a:latin typeface="Arial"/>
              </a:rPr>
              <a:t>YHTI-hanke (Ympäristöterveydenhuollon valtakunnallinen tietojärjestelmä)</a:t>
            </a:r>
            <a:endParaRPr b="1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rää kunnista olennaista tietoa 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upakka-, terveydensuojelu-, kuluttajaturvallisuus- ja kemikaalitoimialal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ietosisällöt on vastikään määritelty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ietojärjestelmän toteutus ja sisäänajo kunnissa on parhaillaan alkamassa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Automaattiset rajapinnat kuntien omiin järjestelmiin (Tarkastaja, TerveKuu) tehty tai tekeill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Varsinainen käyttöönotto 2013-2014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Kytkentöjä elintarvikevalvonnan KUTI-hankkeeseen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uuhenkilö Kaisa Mäntynen/Valvir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Yhteydet YHTIn ja YTH-kokonaisarkkitehtuurin välillä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sena tietojärjestelmänä YHTI on olennainen osa YTH-KA:t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YHTI tarkoitettu toiminnan seurannan ja tilastoinnin välinee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uitenkin sitä voisi ehkä käyttää myös toiminnan kehittämisen välineenä – tätä potentiaalia ei ole järjestelmällisesti arvioitu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Ehdotus: YHTI väliarvioidaan KA:n ja toiminnan tukemisen näkökulmasta syksyllä 2012 –talvella 2013 osana Tekaisu-hankett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valuointi tuo tuoretta tieto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Konkreettisista haasteista KA-työn tekemisessä, kun peilataan käytäntöön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Tärkeän tietojärjestelmän toimivuudesta YTH-alueella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valuointi mahdollistaa toteutuksen loppuvaiheen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paremman kytkemisen strategiseen ja KA-johtamiseen, jos siihen ilmenee tarvetta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simerkiksi avoimuuden, kritisoitavuuden ja jatkokäytettävyyden arviointi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n jo riittävän konkreettinen evaluoitavaksi mutta edelleen STM:n ohjattavissa jos parannettavaa ilmenee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ekaisu-hank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aa hallitusohjelman tavoitteeseen ”Ympäristöstä aiheutuvien terveyshaittojen arviointi otetaan osaksi kaikkea suunnittelua ja päätöksentekoa”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Hankkeen kesto 2012 – 2015 (rahoitus 2013- on haussa)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ukee päätöksentekoa kunnissa tutkimalla ja kehittämällä päätöksenteon tapoja ja tukemalla vaikutusarviointien tekoa ja käyttöä päätöksente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uuhenkilö Jouni Tuomisto/THL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Tekaisun rakenn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228" name="" descr="http://fi.opasnet.org/fi_wiki/images/9/90/TVA-hankkeen_rakenne.PN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ekaisun yhteydet kokonaisarkkitehtuurii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n kohde (ympäristöterveydenhuollon alainen ja siihen liittyvä toiminta kunnissa) on juuri se, mitä YTH-KA-työlläkin pyritään parantamaa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 tuottaa tietoa kokonaisarkkitehtuurin osiin TOIMINTA ja TIETO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Se myös tuottaa / jalkauttaa TIETOJÄRJESTELMI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 tuo käytännön tietoa, jotta kansallinen KA saadaan johdonmukaiseksi ja toimivaksi osaksi kuntien käytäntöj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Tekaisun ohjausryhmä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TH-KA:lle oma johtoryhmä, joka pidetään tietoisena myös Tekaisus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160" y="1652760"/>
            <a:ext cx="90676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taso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5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Tiina Pesonen, Klaus Halla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236" name="Ryhmä 28"/>
          <p:cNvGrpSpPr/>
          <p:nvPr/>
        </p:nvGrpSpPr>
        <p:grpSpPr>
          <a:xfrm>
            <a:off x="826920" y="835200"/>
            <a:ext cx="7777440" cy="5766120"/>
            <a:chOff x="826920" y="835200"/>
            <a:chExt cx="7777440" cy="5766120"/>
          </a:xfrm>
        </p:grpSpPr>
        <p:sp>
          <p:nvSpPr>
            <p:cNvPr id="237" name="Suorakulmio 16"/>
            <p:cNvSpPr/>
            <p:nvPr/>
          </p:nvSpPr>
          <p:spPr>
            <a:xfrm>
              <a:off x="826920" y="4724280"/>
              <a:ext cx="777744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38" name="Suorakulmio 9"/>
            <p:cNvSpPr/>
            <p:nvPr/>
          </p:nvSpPr>
          <p:spPr>
            <a:xfrm>
              <a:off x="826920" y="907920"/>
              <a:ext cx="7777440" cy="180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39" name="Suorakulmio 15"/>
            <p:cNvSpPr/>
            <p:nvPr/>
          </p:nvSpPr>
          <p:spPr>
            <a:xfrm>
              <a:off x="826920" y="2851200"/>
              <a:ext cx="7777440" cy="17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grpSp>
          <p:nvGrpSpPr>
            <p:cNvPr id="240" name="Ryhmä 26"/>
            <p:cNvGrpSpPr/>
            <p:nvPr/>
          </p:nvGrpSpPr>
          <p:grpSpPr>
            <a:xfrm>
              <a:off x="899280" y="979560"/>
              <a:ext cx="5185440" cy="5621760"/>
              <a:chOff x="899280" y="979560"/>
              <a:chExt cx="5185440" cy="5621760"/>
            </a:xfrm>
          </p:grpSpPr>
          <p:sp>
            <p:nvSpPr>
              <p:cNvPr id="241" name="Tekstikehys 23"/>
              <p:cNvSpPr/>
              <p:nvPr/>
            </p:nvSpPr>
            <p:spPr>
              <a:xfrm>
                <a:off x="1428120" y="6142320"/>
                <a:ext cx="442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616365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616365"/>
                    </a:solidFill>
                    <a:latin typeface="Arial"/>
                  </a:rPr>
                  <a:t>Kohdealueen KA-rajaus ja KA-hankkeiden priorisointi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 marL="343080" indent="-343080">
                  <a:buClr>
                    <a:srgbClr val="616365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616365"/>
                    </a:solidFill>
                    <a:latin typeface="Arial"/>
                  </a:rPr>
                  <a:t>Kohdealueen KA-työryhmä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2" name="Tekstikehys 24"/>
              <p:cNvSpPr/>
              <p:nvPr/>
            </p:nvSpPr>
            <p:spPr>
              <a:xfrm>
                <a:off x="1072440" y="6214320"/>
                <a:ext cx="31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16365"/>
                    </a:solidFill>
                    <a:latin typeface="Arial"/>
                  </a:rPr>
                  <a:t>*)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3" name="Pyöristetty suorakulmio 10"/>
              <p:cNvSpPr/>
              <p:nvPr/>
            </p:nvSpPr>
            <p:spPr>
              <a:xfrm>
                <a:off x="2916000" y="979560"/>
                <a:ext cx="31687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osiaali- ja terveydenhuolto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4" name="Pyöristetty suorakulmio 12"/>
              <p:cNvSpPr/>
              <p:nvPr/>
            </p:nvSpPr>
            <p:spPr>
              <a:xfrm>
                <a:off x="2916000" y="1569960"/>
                <a:ext cx="316872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osiaaliturv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5" name="Pyöristetty suorakulmio 13"/>
              <p:cNvSpPr/>
              <p:nvPr/>
            </p:nvSpPr>
            <p:spPr>
              <a:xfrm>
                <a:off x="2916000" y="2244600"/>
                <a:ext cx="3168720" cy="46800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Ympäristöterveydenhuolto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6" name="Suorakulmio 17"/>
              <p:cNvSpPr/>
              <p:nvPr/>
            </p:nvSpPr>
            <p:spPr>
              <a:xfrm>
                <a:off x="2916000" y="2924280"/>
                <a:ext cx="3095640" cy="1584360"/>
              </a:xfrm>
              <a:prstGeom prst="rect">
                <a:avLst/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Ministeriö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THL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- AVIt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TTL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- SH-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Fimea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piirit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Valvira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            - Kela 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STUK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 - kunnat,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lautakunnat      k-liitot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7" name="Suorakulmio 19"/>
              <p:cNvSpPr/>
              <p:nvPr/>
            </p:nvSpPr>
            <p:spPr>
              <a:xfrm>
                <a:off x="2916000" y="4940280"/>
                <a:ext cx="3095640" cy="1079280"/>
              </a:xfrm>
              <a:prstGeom prst="rect">
                <a:avLst/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Ydinprosessit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säädösvalmistelu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tulosohjaus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kv-toimint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toiminnan ja talouden suunnittelu ja seurant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8" name="Tekstikehys 20"/>
              <p:cNvSpPr/>
              <p:nvPr/>
            </p:nvSpPr>
            <p:spPr>
              <a:xfrm>
                <a:off x="970920" y="1556280"/>
                <a:ext cx="18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16365"/>
                    </a:solidFill>
                    <a:latin typeface="Arial"/>
                  </a:rPr>
                  <a:t>KOHDEALUE</a:t>
                </a:r>
                <a:r>
                  <a:rPr b="0" lang="en-US" sz="1800" spc="-1" strike="noStrike">
                    <a:solidFill>
                      <a:srgbClr val="616365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616365"/>
                    </a:solidFill>
                    <a:latin typeface="Arial"/>
                  </a:rPr>
                  <a:t>*)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9" name="Tekstikehys 21"/>
              <p:cNvSpPr/>
              <p:nvPr/>
            </p:nvSpPr>
            <p:spPr>
              <a:xfrm>
                <a:off x="899280" y="3427920"/>
                <a:ext cx="194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616365"/>
                    </a:solidFill>
                    <a:latin typeface="Arial"/>
                  </a:rPr>
                  <a:t>STM:n HALLINNON-ALA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616365"/>
                    </a:solidFill>
                    <a:latin typeface="Arial"/>
                  </a:rPr>
                  <a:t>ja TOIMIJAT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50" name="Tekstikehys 22"/>
              <p:cNvSpPr/>
              <p:nvPr/>
            </p:nvSpPr>
            <p:spPr>
              <a:xfrm>
                <a:off x="1042560" y="5229720"/>
                <a:ext cx="165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16365"/>
                    </a:solidFill>
                    <a:latin typeface="Arial"/>
                  </a:rPr>
                  <a:t>MINISTERIÖ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</p:grpSp>
        <p:sp>
          <p:nvSpPr>
            <p:cNvPr id="251" name="Tekstikehys 18"/>
            <p:cNvSpPr/>
            <p:nvPr/>
          </p:nvSpPr>
          <p:spPr>
            <a:xfrm>
              <a:off x="6372360" y="3092400"/>
              <a:ext cx="187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16365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16365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16365"/>
                  </a:solidFill>
                  <a:latin typeface="Arial"/>
                </a:rPr>
                <a:t>virastojen ja laitosten omat KA- omistajat ja -työryhmät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2" name="Tekstikehys 20"/>
            <p:cNvSpPr/>
            <p:nvPr/>
          </p:nvSpPr>
          <p:spPr>
            <a:xfrm>
              <a:off x="6372360" y="4940640"/>
              <a:ext cx="216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616365"/>
                  </a:solidFill>
                  <a:latin typeface="Arial"/>
                </a:rPr>
                <a:t>STM:n KA-omistaja ja -työryhmä sekä prosessin avustajat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3" name="Pyöristetty suorakulmio 21"/>
            <p:cNvSpPr/>
            <p:nvPr/>
          </p:nvSpPr>
          <p:spPr>
            <a:xfrm>
              <a:off x="6215040" y="114300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 </a:t>
              </a: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-eSOTE- hanke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4" name="Pyöristetty suorakulmio 22"/>
            <p:cNvSpPr/>
            <p:nvPr/>
          </p:nvSpPr>
          <p:spPr>
            <a:xfrm>
              <a:off x="6215040" y="157176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- Sos.vak. järj.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5" name="Pyöristetty suorakulmio 23"/>
            <p:cNvSpPr/>
            <p:nvPr/>
          </p:nvSpPr>
          <p:spPr>
            <a:xfrm>
              <a:off x="6215040" y="200016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16365"/>
                  </a:solidFill>
                  <a:latin typeface="Arial"/>
                </a:rPr>
                <a:t>- Työsuojelu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6" name="Tekstikehys 25"/>
            <p:cNvSpPr/>
            <p:nvPr/>
          </p:nvSpPr>
          <p:spPr>
            <a:xfrm>
              <a:off x="6145560" y="8352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616365"/>
                  </a:solidFill>
                  <a:latin typeface="Arial"/>
                </a:rPr>
                <a:t>esim:</a:t>
              </a:r>
              <a:endParaRPr b="0" lang="en-US" sz="14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257" name="Pyöristetty suorakulmio 26"/>
          <p:cNvSpPr/>
          <p:nvPr/>
        </p:nvSpPr>
        <p:spPr>
          <a:xfrm>
            <a:off x="6215040" y="2357280"/>
            <a:ext cx="2500200" cy="2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0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616365"/>
                </a:solidFill>
                <a:latin typeface="Arial"/>
              </a:rPr>
              <a:t>- </a:t>
            </a:r>
            <a:r>
              <a:rPr b="1" lang="fi-FI" sz="1100" spc="-1" strike="noStrike">
                <a:solidFill>
                  <a:srgbClr val="616365"/>
                </a:solidFill>
                <a:latin typeface="Arial"/>
              </a:rPr>
              <a:t>Kansal.terv.suoj.ohj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8" name="Päivämäärän paikkamerkki 27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45CF-BB51-4447-8307-9EAD3E02545B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9" name="Dian numeron paikkamerkki 27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A54-ACD6-4E30-86FB-5421F7269872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Eri kokonaisarkkitehtuuriprosessien yhteenkytkemine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HL:ssä tekeillä kolme merkittävää arkkitehtuuri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nen sosiaali- ja terveydenhuollon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nen ympäristöterveydenhuollon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THL:n oma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Näitä prosesseja on hyvä tehdä myös yhdessä tietoja jakae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TH-KA voisi tarjota kuvattuja näkökulmia muillekin KA:ille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n os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iranomaistoimint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neet työtavat, tietojärjestelmät ja lainsäädänt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kansallinen YHTI-tietojärjestel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vuosikellotettu KA:n hallintaprosess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lähitulevaisuuden KA ja YHTIn rooli sii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Tapauskohtainen tiedon käyttö toiminnan ja päätöksenteon tukena mm. alueiden käytön suunnitteluss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mattomat toimintatavat ja tietojärjestelmät, terveystiedon kulussa satunnaisuutt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Tekaisu ja Opasnet tiedon välittäjä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KA asettaa yleiset tietorakenteet (esim. kysymys, vastaus, perustelu; arviointi) mutta ei määrää itse tietosisällöistä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yleiset tietorakenteet, niiden kytkeytyminen toimintaan (=päätöksentekoon) ja niitä soveltava(t) tietojärjestelmä(t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Ympäristöterveydenhuollon KA-hallintamalli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427640" y="-1251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4" name="Päivämäärän paikkamerkki 5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87640" y="1484280"/>
            <a:ext cx="3740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6" name="Pyöristetty suorakulmio 6"/>
          <p:cNvSpPr/>
          <p:nvPr/>
        </p:nvSpPr>
        <p:spPr>
          <a:xfrm>
            <a:off x="3708360" y="1197000"/>
            <a:ext cx="1184400" cy="522360"/>
          </a:xfrm>
          <a:prstGeom prst="roundRect">
            <a:avLst>
              <a:gd name="adj" fmla="val 16667"/>
            </a:avLst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slia-päällikk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7" name="Ellipsi 7"/>
          <p:cNvSpPr/>
          <p:nvPr/>
        </p:nvSpPr>
        <p:spPr>
          <a:xfrm>
            <a:off x="857160" y="2286000"/>
            <a:ext cx="1951200" cy="56664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erni-johtoryh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8" name="Ellipsi 8"/>
          <p:cNvSpPr/>
          <p:nvPr/>
        </p:nvSpPr>
        <p:spPr>
          <a:xfrm>
            <a:off x="5219640" y="1484280"/>
            <a:ext cx="1741680" cy="56664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TM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149" name="Ellipsi 18"/>
          <p:cNvGrpSpPr/>
          <p:nvPr/>
        </p:nvGrpSpPr>
        <p:grpSpPr>
          <a:xfrm>
            <a:off x="3267000" y="2266920"/>
            <a:ext cx="2621160" cy="677880"/>
            <a:chOff x="3267000" y="2266920"/>
            <a:chExt cx="2621160" cy="677880"/>
          </a:xfrm>
        </p:grpSpPr>
        <p:pic>
          <p:nvPicPr>
            <p:cNvPr id="150" name="Ellipsi 18" descr=""/>
            <p:cNvPicPr/>
            <p:nvPr/>
          </p:nvPicPr>
          <p:blipFill>
            <a:blip r:embed="rId1"/>
            <a:stretch/>
          </p:blipFill>
          <p:spPr>
            <a:xfrm>
              <a:off x="3267000" y="2266920"/>
              <a:ext cx="2621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664080" y="2379600"/>
              <a:ext cx="182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KA koordi- nointiryhmä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152" name="Suora yhdysviiva 22"/>
          <p:cNvSpPr/>
          <p:nvPr/>
        </p:nvSpPr>
        <p:spPr>
          <a:xfrm>
            <a:off x="4892760" y="1457280"/>
            <a:ext cx="582480" cy="1112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3" name="Ellipsi 23"/>
          <p:cNvSpPr/>
          <p:nvPr/>
        </p:nvSpPr>
        <p:spPr>
          <a:xfrm>
            <a:off x="3284640" y="5445000"/>
            <a:ext cx="1000080" cy="64800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H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4" name="Ellipsi 24"/>
          <p:cNvSpPr/>
          <p:nvPr/>
        </p:nvSpPr>
        <p:spPr>
          <a:xfrm>
            <a:off x="4581360" y="5445000"/>
            <a:ext cx="1359000" cy="64800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kaisu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5" name="Suora yhdysviiva 26"/>
          <p:cNvSpPr/>
          <p:nvPr/>
        </p:nvSpPr>
        <p:spPr>
          <a:xfrm>
            <a:off x="4355280" y="1700280"/>
            <a:ext cx="1800" cy="4982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6" name="Suora yhdysviiva 28"/>
          <p:cNvSpPr/>
          <p:nvPr/>
        </p:nvSpPr>
        <p:spPr>
          <a:xfrm>
            <a:off x="2808360" y="2570040"/>
            <a:ext cx="4777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7" name="Suora yhdysviiva 54"/>
          <p:cNvSpPr/>
          <p:nvPr/>
        </p:nvSpPr>
        <p:spPr>
          <a:xfrm flipV="1">
            <a:off x="5003640" y="1968480"/>
            <a:ext cx="471600" cy="3808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8" name="Tekstikehys 66"/>
          <p:cNvSpPr/>
          <p:nvPr/>
        </p:nvSpPr>
        <p:spPr>
          <a:xfrm>
            <a:off x="428760" y="2500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9" name="Tekstikehys 67"/>
          <p:cNvSpPr/>
          <p:nvPr/>
        </p:nvSpPr>
        <p:spPr>
          <a:xfrm>
            <a:off x="7861320" y="16430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 + tulos-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0" name="Tekstikehys 68"/>
          <p:cNvSpPr/>
          <p:nvPr/>
        </p:nvSpPr>
        <p:spPr>
          <a:xfrm>
            <a:off x="3357720" y="121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1" name="Tekstikehys 69"/>
          <p:cNvSpPr/>
          <p:nvPr/>
        </p:nvSpPr>
        <p:spPr>
          <a:xfrm>
            <a:off x="37861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2" name="Tekstikehys 70"/>
          <p:cNvSpPr/>
          <p:nvPr/>
        </p:nvSpPr>
        <p:spPr>
          <a:xfrm>
            <a:off x="324000" y="1557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P=päätöksentek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V= valmistelu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3" name="Suora yhdysviiva 64"/>
          <p:cNvSpPr/>
          <p:nvPr/>
        </p:nvSpPr>
        <p:spPr>
          <a:xfrm flipH="1" flipV="1">
            <a:off x="6567120" y="2805120"/>
            <a:ext cx="20520" cy="475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4" name="Ellipsi 51"/>
          <p:cNvSpPr/>
          <p:nvPr/>
        </p:nvSpPr>
        <p:spPr>
          <a:xfrm>
            <a:off x="3780000" y="3357720"/>
            <a:ext cx="1439640" cy="934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YMP.TH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KA-ohry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5" name="Suora yhdysviiva 58"/>
          <p:cNvSpPr/>
          <p:nvPr/>
        </p:nvSpPr>
        <p:spPr>
          <a:xfrm flipV="1">
            <a:off x="4500720" y="2997000"/>
            <a:ext cx="0" cy="360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6" name="Suora yhdysviiva 67"/>
          <p:cNvSpPr/>
          <p:nvPr/>
        </p:nvSpPr>
        <p:spPr>
          <a:xfrm flipV="1">
            <a:off x="395280" y="3141720"/>
            <a:ext cx="8137440" cy="71280"/>
          </a:xfrm>
          <a:prstGeom prst="line">
            <a:avLst/>
          </a:prstGeom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7" name="Ellipsi 74"/>
          <p:cNvSpPr/>
          <p:nvPr/>
        </p:nvSpPr>
        <p:spPr>
          <a:xfrm>
            <a:off x="3564000" y="4508640"/>
            <a:ext cx="1800000" cy="720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itehtuu-ri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8" name="Suora yhdysviiva 77"/>
          <p:cNvSpPr/>
          <p:nvPr/>
        </p:nvSpPr>
        <p:spPr>
          <a:xfrm flipH="1">
            <a:off x="4464000" y="4292640"/>
            <a:ext cx="36720" cy="2160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9" name="Suora yhdysviiva 84"/>
          <p:cNvSpPr/>
          <p:nvPr/>
        </p:nvSpPr>
        <p:spPr>
          <a:xfrm flipH="1">
            <a:off x="3924000" y="5229360"/>
            <a:ext cx="142920" cy="144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0" name="Suora yhdysviiva 86"/>
          <p:cNvSpPr/>
          <p:nvPr/>
        </p:nvSpPr>
        <p:spPr>
          <a:xfrm>
            <a:off x="4858560" y="5157720"/>
            <a:ext cx="289080" cy="2872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1" name="Ellipsi 87"/>
          <p:cNvSpPr/>
          <p:nvPr/>
        </p:nvSpPr>
        <p:spPr>
          <a:xfrm>
            <a:off x="1476360" y="3573360"/>
            <a:ext cx="1440000" cy="935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YTH ohry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2" name="Suora yhdysviiva 89"/>
          <p:cNvSpPr/>
          <p:nvPr/>
        </p:nvSpPr>
        <p:spPr>
          <a:xfrm flipV="1">
            <a:off x="2916360" y="4005000"/>
            <a:ext cx="9349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3" name="Suora yhdysviiva 93"/>
          <p:cNvSpPr/>
          <p:nvPr/>
        </p:nvSpPr>
        <p:spPr>
          <a:xfrm flipH="1" flipV="1">
            <a:off x="2705040" y="4370040"/>
            <a:ext cx="858960" cy="4986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Alueellisten hankkeiden KA-hallintamallin roolit ja vastuut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Klaus Halla,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Tiina Pesonen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44A-7D3B-475C-86F8-F57D1223AF76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8F2-6D1E-4560-9105-D9961F12D162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7280" y="1201680"/>
          <a:ext cx="8605800" cy="5632560"/>
        </p:xfrm>
        <a:graphic>
          <a:graphicData uri="http://schemas.openxmlformats.org/drawingml/2006/table">
            <a:tbl>
              <a:tblPr/>
              <a:tblGrid>
                <a:gridCol w="2016360"/>
                <a:gridCol w="6589440"/>
              </a:tblGrid>
              <a:tr h="324360">
                <a:tc>
                  <a:txBody>
                    <a:bodyPr lIns="83160" rIns="8316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imija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tuut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21896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:n toimialan KA-koordinointiryhm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ordinoi sosiaali- ja terveydenhuollon arkkitehtuurihallintaa kansallisella ja alueellisella tasolla sekä varmistaa hallinnonalan, kohdealueiden ja toimialan arkkitehtuurien yhteentoimivuud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kokonaisarkkitehtuurihankkeita hallinnonalalla ja kohdealueilla sekä vastaa hankesalkunhallinnasta kokonaisarkkitehtuurin näkökulmasta (arkkitehtuurin mukaisuus)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hallinnonalan, kohdealueiden ja toimialojen arkkitehtuurilinjaukset, käsittelee linjausten muutokset sekä ylläpitää kokonaisarkkitehtuurin kehittämispolku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424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äristöterveydenhuollon hankkeiden ohjausryhm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Ympäristöterveydenuollon kokonaisarkkitehtuurityötä kokonaisuuten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kansallisten ja alueellisten hankkeiden yhteentoimivuuden 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nnistaa yhteentoimivuuden esteitä ja nostaa ne STM:n toimialan kokonaisarkkitehtuurin koodinointiryhmän käsiteltäväks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KA:n mukaisten rajapintojen toteutumisen 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ordinoi Ympäristöterveydenhuollon hankesalkkua ja varmistaa yhteentoimivuud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A-vuosikellon toteutumisen seuranta ja ohjaus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 kokonaisarkkiteh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kee ja ohjaa Ympäristöterveydenhuollon pääarkkitehtia ja arkkitehtuurityhmän KA-työt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STM:n KA-linjausten ja periaatteiden toteutumis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20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TH:n pääarkkiteh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staa kokonaisarkkitehtuurityöstä Ympäristöterveydenhuollon alueell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ja tukee arkkitehtuurityyöt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vuosikellon ja ylläpitää hanksalkku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Hankkeen arkkitehtuurivastaav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htaa oman alueensa / organisaationsa </a:t>
                      </a: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arkkitehtuuriryhmän toimintaa ja </a:t>
                      </a: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raportoi oman alueensa kokonaisarkkitehtuurihankkeen etenemisestä koordinointiryhmälle säännöllises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352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Arkkitehtuuriryhmät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koaa oman vastuualueensa arkkitehtuurilinjaukset ja -kuvaukset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nnistaa kuvattavat arkkitehtuurialueet oman vastuualueensa osalta sekä määrittelee alueensa kehittämispolu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oimeenpanee oman alueensa kokonaisarkkitehtuurin kehittämissuunnitelman (ml. nykytilan ja tavoitetilan kuvaaminen valituilla alueilla)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voo arkkitehtuurilinjausten noudattamista  ja täytäntöönpanoa omalla vastuualueellaa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tarvittavat muutospyynnöt kehityshankkeiden perusteell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Arkkitehdit ja KA-ohjausryhmä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0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Etunimi Sukunimi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1" name="Dian numeron paikkamerkki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542C-6FC5-4D7F-A9A7-1471E3CF2A43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2" name="Päivämäärän paikkamerkki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DD85-17A1-4B59-B1B4-48435677D86C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1280" y="1700280"/>
          <a:ext cx="6624720" cy="2868480"/>
        </p:xfrm>
        <a:graphic>
          <a:graphicData uri="http://schemas.openxmlformats.org/drawingml/2006/table">
            <a:tbl>
              <a:tblPr/>
              <a:tblGrid>
                <a:gridCol w="2208240"/>
                <a:gridCol w="1752480"/>
                <a:gridCol w="26640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kilö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ati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l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ari Keinä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puheenjohtaja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ina Peso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arja Hartikai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untaliit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N.N.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uni Tuomis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HL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ekaisu-han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yrki Huika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.terv.huollon pääarkkihtehti, sihtee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arkkitehdi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5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Etunimi Sukunimi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6" name="Dian numeron paikkamerkki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BAD-1243-4F06-A147-7EAB36060DA0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7" name="Päivämäärän paikkamerkki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D59-57B9-4C15-8F79-84193E8D482D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916280"/>
          <a:ext cx="6553440" cy="2846160"/>
        </p:xfrm>
        <a:graphic>
          <a:graphicData uri="http://schemas.openxmlformats.org/drawingml/2006/table">
            <a:tbl>
              <a:tblPr/>
              <a:tblGrid>
                <a:gridCol w="2184480"/>
                <a:gridCol w="1703520"/>
                <a:gridCol w="26654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kilö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ati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l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yrki Huika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äristöterveydenhuollon pääarkkitehti, YTH-hankkeen arkkitehti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uni Tuomis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HL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ekaisu-hankkeen arkkite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ukka Lähesmaa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A-pääarkkite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N.N. Tiina Vuolteenaho?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n os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iranomaistoimint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neet työtavat, tietojärjestelmät ja lainsäädänt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kansallinen YHTI-tietojärjestel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vuosikellotettu KA:n hallintaprosess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lähitulevaisuuden KA ja YHTIn rooli sii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Tapauskohtainen tiedon käyttö toiminnan ja päätöksenteon tukena mm. alueiden käytön suunnitteluss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mattomat toimintatavat ja tietojärjestelmät, terveystiedon kulussa satunnaisuutt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Tekaisu ja Opasnet tiedon välittäjä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KA asettaa yleiset tietorakenteet (esim. kysymys, vastaus, perustelu; arviointi) mutta ei määrää itse tietosisällöistä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yleiset tietorakenteet, niiden kytkeytyminen toimintaan (=päätöksentekoon) ja niitä soveltava(t) tietojärjestelmä(t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03280" y="58766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Jouni Tuomisto, THL, Kuopio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Sisältö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(KA) taustatekijä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Megatrendit ja kolme kriteeriä: Avoimuus, kritisoitavuus, jatkokäytettävy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ytkennät Tekaisu-hankkeese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ytkennät YHTI-hankkeese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Organisoituminen: ohjausryhmät, kytkentä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Synergia muiden KA:ien kanssa: THL:n, sosiaali- ja terveydenhuollon kansallinen, ympäristöterveydenhuollon kansall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1:50:53Z</dcterms:created>
  <dc:creator>stmtpes</dc:creator>
  <dc:description/>
  <dc:language>en-US</dc:language>
  <cp:lastModifiedBy>ktluser</cp:lastModifiedBy>
  <dcterms:modified xsi:type="dcterms:W3CDTF">2012-06-08T10:33:55Z</dcterms:modified>
  <cp:revision>12</cp:revision>
  <dc:subject/>
  <dc:title>Ympäristöterveydenhuolto</dc:title>
</cp:coreProperties>
</file>